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9A8E-E3CC-4BD1-ABCB-1773100D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002A-8229-41D1-8851-4A27B2F0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B728-AB88-48E8-881D-2B95E851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0797-4180-466A-BE86-C5B56AFC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FBCA-9D47-4753-B7C3-089A9A6B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729A-6F3D-4697-84D4-006F13ED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DDEF-94C8-4B93-83FC-4221FD21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0A5C-E3EF-4603-8B34-71C598AA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2BB7-0B1B-4953-992B-7F6E2B9C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E91F-2F7D-449E-822F-F62FB3A3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E7C0-4E9B-4ECD-8795-FA77BA01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7DEB-F10B-486F-AACC-5A843649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FB24-D841-4CA0-A0E9-80B07973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E191-3B99-4A1B-99B0-37688881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7183-AF4A-4FA3-AE66-C0320185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7A68-4289-4980-9D65-F0460647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9F61-62C7-4507-91FC-6A29DB2C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99B5-E8BF-47B9-8477-AB4D9E3B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B34A-82F1-480F-A9BA-87200C84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8D4C-B3FC-4204-BC6B-DF908FF8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3143-C832-411A-8DA9-F37779A0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74D8-59AD-4B82-A657-2C545646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E123-9799-439F-84F8-4258B3EB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9BB5-45FA-4FBE-978D-43943211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5F73-22AE-49BF-B1F1-C5BB87D9504D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15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480" indent="-141480">
              <a:lnSpc>
                <a:spcPct val="150000"/>
              </a:lnSpc>
              <a:spcBef>
                <a:spcPts val="9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991800" indent="-14148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5480" indent="-141480">
              <a:lnSpc>
                <a:spcPct val="150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5480" indent="-14148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5480" indent="-14148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E9E0-68A4-4834-A037-30043C285E10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33"/>
                </a:solidFill>
                <a:latin typeface="Arial"/>
                <a:ea typeface="新細明體"/>
              </a:rPr>
              <a:t>六個生活的啟示</a:t>
            </a:r>
            <a:endParaRPr b="1" lang="en-US" sz="48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1960" y="907560"/>
            <a:ext cx="7772400" cy="56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默想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——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這是一個聰明的孩子，他知道自己的有限，         而更重要的，他也明白別人比自己強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——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凡事不只靠自己的力量，學會適時的依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他人，是一種謙卑，更是一種聰明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214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33"/>
                </a:solidFill>
                <a:latin typeface="Arial"/>
                <a:ea typeface="新細明體"/>
              </a:rPr>
              <a:t>(4) </a:t>
            </a:r>
            <a:r>
              <a:rPr b="0" lang="zh-TW" sz="4800" spc="-1" strike="noStrike">
                <a:solidFill>
                  <a:srgbClr val="ff0033"/>
                </a:solidFill>
                <a:latin typeface="Arial"/>
                <a:ea typeface="新細明體"/>
              </a:rPr>
              <a:t>聽的藝術</a:t>
            </a:r>
            <a:endParaRPr b="1" lang="en-US" sz="48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3640" y="836640"/>
            <a:ext cx="8210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美國知名主持人 “林克萊特” 一天訪問一名小朋友，問他說： 「你長大後想要當甚麼呀？」小朋友天真的回答：「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要當飛機的駕駛員！」林克萊特接著問：「如果有一天，你的飛機飛到太平洋上空所有引擎都 熄火了，你會怎麼辦？」小朋友想了 想 「我會先告訴坐在飛機上的人綁好安全帶，然後我掛上我的降落傘跳出去。」當在現場的觀眾笑的東倒西歪時，林克萊特繼續注視這孩子，想看他是不是自作聰明的傢伙。沒想到，接著孩子的兩行熱淚奪眶而出，這才使得林克萊特發覺這孩子的悲憫之情遠非筆墨所能形容。於是林克萊特問他說：「為甚麼要這麼做？」小孩的答案透露出一個孩子真摯的想法：「我要去拿燃料，我還要回來！！」「我還要回來！」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聽到別人說話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....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真的聽懂他說的意思嗎？你懂嗎？如果不懂，就請聽別人說完吧，這就是「聽的藝術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聽話不要聽一半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.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還有，不要把自己的意思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投射到別人所說的話上頭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33"/>
                </a:solidFill>
                <a:latin typeface="Arial"/>
                <a:ea typeface="新細明體"/>
              </a:rPr>
              <a:t>(5) </a:t>
            </a:r>
            <a:r>
              <a:rPr b="0" lang="zh-TW" sz="4800" spc="-1" strike="noStrike">
                <a:solidFill>
                  <a:srgbClr val="ff0033"/>
                </a:solidFill>
                <a:latin typeface="Arial"/>
                <a:ea typeface="新細明體"/>
              </a:rPr>
              <a:t>散步的啟示</a:t>
            </a:r>
            <a:endParaRPr b="1" lang="en-US" sz="48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上帝給我一個任務，叫我牽一隻蝸牛去散步。我不能走得太快，蝸牛已經盡力爬，每次總是挪那一點點。我催它，我唬它，我責備它，蝸牛用抱歉的眼光看著我，彷佛說：「人家已經盡了全力！」我拉它，我扯，我甚至想踢它，蝸牛受了傷，它流著汗，喘著氣，往 前爬真奇怪，為什麼上帝叫我牽一隻蝸牛去散步？上帝啊！為什麼？」天上一片安靜。「唉！也許上帝去抓蝸牛了！」好吧！鬆手吧！反正上帝不管了，我還管什麼？任蝸牛往前爬，我在後面生悶氣。咦？我聞到花香，原來這邊有個花園。我感到微風吹來， 原來夜裏的風這　溫柔。慢著！我聽到鳥聲，我聽到蟲鳴，我看到滿天的星斗多亮麗。咦？以前怎麼沒有這些體會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5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忽然想起來，莫非是我弄錯了！原來上帝叫蝸牛牽我去散步。你找到你的蝸牛了嗎？偶爾出去散散步吧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080" y="2349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33"/>
                </a:solidFill>
                <a:latin typeface="Arial"/>
                <a:ea typeface="新細明體"/>
              </a:rPr>
              <a:t>(6) </a:t>
            </a:r>
            <a:r>
              <a:rPr b="0" lang="zh-TW" sz="4800" spc="-1" strike="noStrike">
                <a:solidFill>
                  <a:srgbClr val="ff0033"/>
                </a:solidFill>
                <a:latin typeface="Arial"/>
                <a:ea typeface="新細明體"/>
              </a:rPr>
              <a:t>你真的可以很自在</a:t>
            </a:r>
            <a:endParaRPr b="1" lang="en-US" sz="48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1752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米蘭昆德拉有一本書叫「生活在他方」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對這五個字有很好的聯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的生活總是在遠方，都在想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如果明天我有錢，我就可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....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920" y="1020240"/>
            <a:ext cx="77724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但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如果你現在賺少錢不快樂，就算你有再多的錢，我保證你也不會快樂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如果你一個人的時候不會自得其樂，即使嫁了人，娶了老婆，別人跟你一起一樣不快樂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如果現在不懂得享受生活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未來也不會享受生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  <a:ea typeface="新細明體"/>
              </a:rPr>
              <a:t>(1)</a:t>
            </a:r>
            <a:r>
              <a:rPr b="1" lang="zh-TW" sz="4800" spc="-1" strike="noStrike">
                <a:solidFill>
                  <a:srgbClr val="ff0033"/>
                </a:solidFill>
                <a:latin typeface="Arial"/>
                <a:ea typeface="新細明體"/>
              </a:rPr>
              <a:t>單純的喜悅</a:t>
            </a:r>
            <a:r>
              <a:rPr b="1" lang="zh-CN" sz="4800" spc="-1" strike="noStrike">
                <a:solidFill>
                  <a:srgbClr val="ff0033"/>
                </a:solidFill>
                <a:latin typeface="Arial"/>
                <a:ea typeface="宋体"/>
              </a:rPr>
              <a:t> </a:t>
            </a:r>
            <a:endParaRPr b="1" lang="en-US" sz="48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3640" y="175212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有人問什麼叫做自由，所謂的自由就是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想要拒絕一個人的約會， 已經不需要任何理由，你有權力過自己要過的生活，有權力去自己要去的地方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196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33"/>
                </a:solidFill>
                <a:latin typeface="Arial"/>
                <a:ea typeface="新細明體"/>
              </a:rPr>
              <a:t>其實生活很簡單。</a:t>
            </a:r>
            <a:endParaRPr b="1" lang="en-US" sz="48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44360" y="1041480"/>
            <a:ext cx="784836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男人跟女人都很喜歡在自己的人生設一個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adline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，比如說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5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歲一定要結婚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6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歲一定生孩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0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歲時一定要一男一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1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歲的時候一定要有房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所以很多決定就很草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0320" y="77616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如果剛開始你找的那個人就不對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往後再怎麼努力都不對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有時候，我們常常會覺得婚結了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所有問題就沒了，那如果結了婚還有問題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就趕快把小孩生一生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其實你的問題在這個階段沒解決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在下個階段只會變大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你對未來不用期待太多，期待太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.....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老實說挫折感會很深，不如看看你現在做什麼事情，會讓你覺得很自在，吸收到很多的東西，那個時候你才會覺得人生真的很充實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另外，一個人如果太努力在活給別人看，                    就會痛苦得不得了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今天如果你相信自己做得還不錯，不在乎別人怎麼看你的時候，你真的可以很自在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宋体"/>
              </a:rPr>
              <a:t>………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宋体"/>
              </a:rPr>
              <a:t>.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宋体"/>
              </a:rPr>
              <a:t>………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宋体"/>
              </a:rPr>
              <a:t>.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宋体"/>
              </a:rPr>
              <a:t>………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宋体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10920" y="980640"/>
            <a:ext cx="7848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有一個小女孩每天都從家裏走路去上學。一天早上天氣不太好，雲層漸漸變厚，到了下午時風吹得更急，不久開始有閃電、打雷、下大雨。小女孩的媽媽很擔心，她擔心小女孩會被打雷嚇著，甚至被雷打到。雷雨下得愈來愈大，閃電像一把銳利的劍刺破天空，小女孩的媽媽趕緊開著她的車，沿著上學的路線去找小女孩，看到自己的小女兒一個人走在街上，卻發現每次閃電時，她都停下腳步、抬頭往上看、並露出微笑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看了許久，媽媽終於忍不住叫住她的孩子，問她說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「你在做什麼啊？」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她說：「上帝剛才幫我照相，所以我要笑啊！」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78483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沉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人們最容易犯的錯就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用自己腦袋中的觀念去解釋別人眼中的事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其實有多少事情是只有一種理解途徑的呢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朋友們，當你正在用這樣的方式解釋你的身邊發生的一切時，你已經錯過了多少美好的經歷和心靈的體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放棄故定的思維模式，享受多重的人生吧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Arial"/>
                <a:ea typeface="新細明體"/>
              </a:rPr>
              <a:t>(2) </a:t>
            </a:r>
            <a:r>
              <a:rPr b="1" lang="zh-TW" sz="4800" spc="-1" strike="noStrike">
                <a:solidFill>
                  <a:srgbClr val="ff0033"/>
                </a:solidFill>
                <a:latin typeface="Arial"/>
                <a:ea typeface="新細明體"/>
              </a:rPr>
              <a:t>失去與擁有</a:t>
            </a:r>
            <a:endParaRPr b="1" lang="en-US" sz="48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7724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有位企業家在商場上有著驚人的成就。當他在事業達到巔峰的時候，有一天陪同他的父親，到一家高貴的餐廳用餐，現場有一位琴藝不凡的小提琴手正在為大家演奏。這位企業家在聆賞之余，想起當年自己也曾學過琴，而且幾乎為之瘋狂，便對他父親說：「如果我從前好好學琴的話，現在也許就會在這兒演奏了。「是呀，孩子，」他父親回答，「不過那樣的話，你現在就不會在這兒用餐了。」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14400" y="187128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默想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我們常為失去的機會或成就而嗟歎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但往往忘了為現在所擁有的感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33"/>
                </a:solidFill>
                <a:latin typeface="Arial"/>
                <a:ea typeface="新細明體"/>
              </a:rPr>
              <a:t>(3) </a:t>
            </a:r>
            <a:r>
              <a:rPr b="0" lang="zh-TW" sz="4800" spc="-1" strike="noStrike">
                <a:solidFill>
                  <a:srgbClr val="ff0033"/>
                </a:solidFill>
                <a:latin typeface="Arial"/>
                <a:ea typeface="新細明體"/>
              </a:rPr>
              <a:t>知道自己</a:t>
            </a:r>
            <a:br>
              <a:rPr sz="4800"/>
            </a:br>
            <a:r>
              <a:rPr b="0" lang="zh-TW" sz="4800" spc="-1" strike="noStrike">
                <a:solidFill>
                  <a:srgbClr val="ff0033"/>
                </a:solidFill>
                <a:latin typeface="Arial"/>
                <a:ea typeface="新細明體"/>
              </a:rPr>
              <a:t>「有限」的聰明</a:t>
            </a:r>
            <a:endParaRPr b="1" lang="en-US" sz="4800" spc="-1" strike="noStrike">
              <a:solidFill>
                <a:srgbClr val="ff0033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7848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6633"/>
                </a:solidFill>
                <a:latin typeface="幼圆"/>
                <a:ea typeface="幼圆"/>
              </a:rPr>
              <a:t>	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有一個聰明的男孩，有一天媽媽帶著他到雜貨店去買東西，老闆看到這個可愛的小孩，就打開一罐糖果，要小男孩自己拿一把糖果。但是這個男孩卻沒有任何的動作。幾次的邀請之後，老闆親自抓了一大把糖果放進他的口袋中。回到家中，母親很好奇的問小男孩，為什麼沒有自己去抓糖果而要老闆抓呢？小男孩回答得很妙：「因為我的手比較小呀！而老闆的手比較大，所以他拿的一定比我拿的多很多！」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42:53Z</dcterms:created>
  <dc:creator>BRENT LIU</dc:creator>
  <dc:description/>
  <dc:language>en-US</dc:language>
  <cp:lastModifiedBy>周碧蓮</cp:lastModifiedBy>
  <dcterms:modified xsi:type="dcterms:W3CDTF">2006-03-19T23:45:32Z</dcterms:modified>
  <cp:revision>18</cp:revision>
  <dc:subject/>
  <dc:title>六个生活的启示</dc:title>
</cp:coreProperties>
</file>