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1.jpeg" ContentType="image/jpeg"/>
  <Override PartName="/ppt/media/camera.wav" ContentType="audio/x-wav"/>
  <Override PartName="/ppt/media/image28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4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7.jpeg" ContentType="image/jpeg"/>
  <Override PartName="/ppt/media/image3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202F-C8B0-498C-B61E-0115D5A22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75EB-4958-4E77-9EC1-E0DD1089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7E35-AF7F-45FA-B3F1-23AC9AEBA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8424-E29F-4473-8ACC-EDCC9A48A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513B-575C-459C-9CD3-5DCAC12A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7E6E-B677-4941-A5D2-1296EB52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A213-C919-4D16-8997-9846C132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681C-760E-44C1-B89C-728A90E5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B05C-46C7-4D27-82C5-A954A462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1E44-D633-488A-BF6B-8740A070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BD90-707D-45AA-A15A-9A3B458B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DC7F-3188-450E-8330-C4127F0C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19DB-C76C-4AD3-89BF-5E4A15C48037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0" spc="-1" strike="noStrike">
                <a:solidFill>
                  <a:srgbClr val="808080"/>
                </a:solidFill>
                <a:latin typeface="Arial"/>
                <a:ea typeface="新造中粗隸"/>
              </a:rPr>
              <a:t>華東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PHTOGRAPH B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macshea@netvigator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752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752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752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752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1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1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1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23480" cy="68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1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1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752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776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752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5T13:44:52Z</dcterms:created>
  <dc:creator>mac</dc:creator>
  <dc:description/>
  <dc:language>en-US</dc:language>
  <cp:lastModifiedBy>mac</cp:lastModifiedBy>
  <dcterms:modified xsi:type="dcterms:W3CDTF">2004-03-26T17:49:11Z</dcterms:modified>
  <cp:revision>18</cp:revision>
  <dc:subject/>
  <dc:title>華東</dc:title>
</cp:coreProperties>
</file>