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1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5.wmf" ContentType="image/x-wmf"/>
  <Override PartName="/ppt/media/image32.png" ContentType="image/png"/>
  <Override PartName="/ppt/media/image7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9.wmf" ContentType="image/x-wmf"/>
  <Override PartName="/ppt/media/image35.wmf" ContentType="image/x-wmf"/>
  <Override PartName="/ppt/media/image3.jpeg" ContentType="image/jpeg"/>
  <Override PartName="/ppt/media/image36.wmf" ContentType="image/x-wmf"/>
  <Override PartName="/ppt/media/image16.png" ContentType="image/png"/>
  <Override PartName="/ppt/media/image11.wmf" ContentType="image/x-wmf"/>
  <Override PartName="/ppt/media/image5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29.png" ContentType="image/png"/>
  <Override PartName="/ppt/media/image2.wmf" ContentType="image/x-wmf"/>
  <Override PartName="/ppt/media/image17.wmf" ContentType="image/x-wmf"/>
  <Override PartName="/ppt/media/image20.png" ContentType="image/png"/>
  <Override PartName="/ppt/media/image21.wmf" ContentType="image/x-wmf"/>
  <Override PartName="/ppt/media/image18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2B0-029F-4D7B-975F-DA63C372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A3A-A974-43E3-B8FB-053398CB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190-9A8D-42E7-9290-0EFBF68F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EAF-AA35-4087-A313-6710361A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912-CC61-4A83-A5CA-3E14C5BB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13C-F521-46AA-8881-B1A49830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7A3-4809-4EF2-B5BA-A4522AA0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99F-802D-44B3-AB4B-6D599881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1D0-A045-46EF-9C10-4B0E3C6B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43C-6ED9-43DD-9E72-87CE228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D92-73FA-4F61-9F0E-9ED5D15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05E-CCA3-4787-A404-3A66F74F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4638-0F54-4B41-B0FC-392F7AE8CA5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1338120"/>
            <a:ext cx="468000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聖嚴法師　著</a:t>
            </a:r>
            <a:br>
              <a:rPr sz="2800"/>
            </a:br>
            <a:r>
              <a:rPr b="1" lang="zh-TW" sz="8000" spc="-1" strike="noStrike">
                <a:solidFill>
                  <a:srgbClr val="cc0000"/>
                </a:solidFill>
                <a:latin typeface="Arial"/>
                <a:ea typeface="標楷體"/>
              </a:rPr>
              <a:t>快樂人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4076640"/>
            <a:ext cx="6337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快樂並不在於有與非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而是在於珍惜與知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人生時時刻刻都是新的體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懂得體會當下的感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原來，快樂就是那麼簡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38960" y="3065400"/>
            <a:ext cx="13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98280" y="0"/>
            <a:ext cx="94233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050560" y="1413000"/>
            <a:ext cx="648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好人不寂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善人最快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時時處處助人利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時時處處你最幸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四眾佛子共勉語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23920" y="2924280"/>
            <a:ext cx="1576440" cy="26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A43-E37B-4AE4-9D18-A03581D720B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1560" y="134136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擁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健全的人品、健康的身體、愉快的心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才是人生的資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禪門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272412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8A1-1CCC-4F25-ABFD-128501490E22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48840" y="764640"/>
            <a:ext cx="7210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盡心盡力的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但是成事在因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經過努力以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管是得是失，不論好壞成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中都已經不再計較，也沒有任何負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這才叫做「放下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大法鼓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4653000"/>
            <a:ext cx="2157480" cy="160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E92-4DF2-40EE-B4DD-7E6E21EC6429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8046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要以平等的慈悲心關懷他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要以無我的無慧心出離煩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如果能夠學習著運用這些觀念和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就會享受到心無罣礙，解脫自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忙也自在、閒也自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好也自在、壞也自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富也自在、貧也自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空花水月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5480" y="4484520"/>
            <a:ext cx="1801800" cy="18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4FE-B4A1-4457-AF6E-D9DFDE4300ED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08000" y="1052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要貪求好現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也不要討厭壞境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只有不忮不求，才能無欠無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才能體會到真正的快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快樂自己決定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00720" y="3429000"/>
            <a:ext cx="1749600" cy="257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3D3-2E33-4BCC-BF04-1BA30D8D6FE6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49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平常心就是最自在、最愉快的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法鼓鐘聲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3097080" cy="288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A4A-0BE0-4EF5-9181-B070C36FB3B5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280" y="1888920"/>
            <a:ext cx="37450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66"/>
                </a:solidFill>
                <a:latin typeface="Arial"/>
              </a:rPr>
              <a:t>第二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66"/>
                </a:solidFill>
                <a:latin typeface="Arial"/>
              </a:rPr>
              <a:t>化解煩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962600" y="1600200"/>
            <a:ext cx="3409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C41-2762-4A61-956A-75BE1FB7FD2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0680" y="3716280"/>
            <a:ext cx="2641320" cy="2808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640" y="5587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遇到煩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要面對它、接受它、處理它、放下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自找煩惱，就是智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有煩惱的時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要把它當成困擾，就沒有煩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福慧自在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BE7-007B-4D7A-87B0-DD27C3EF0BF3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549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看到了只是看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聽到了只是聽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而不產生好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因為心裡有了好惡的分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就會有執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喜愛的就想佔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討厭的就會排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患得患失，煩惱就來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人行道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588000" y="4149720"/>
            <a:ext cx="1643040" cy="18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48B-29A2-4CF7-AD21-7F622582401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1912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事情發生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能夠處理的就處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能處理的就接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然後暫且放下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待因緣際會時再處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這就是智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是非要溫柔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00000" y="4329000"/>
            <a:ext cx="2592360" cy="19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32D-29C6-45A9-ACAC-A4B8A7C162EF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0920" y="2178000"/>
            <a:ext cx="7848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Arial"/>
              </a:rPr>
              <a:t>第一篇　和喜自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Arial"/>
              </a:rPr>
              <a:t>第二篇　化解煩惱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Arial"/>
              </a:rPr>
              <a:t>第三篇　消除壓力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00"/>
                </a:solidFill>
                <a:latin typeface="Arial"/>
              </a:rPr>
              <a:t>第四篇　知足常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69228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0000"/>
                </a:solidFill>
                <a:latin typeface="Arial"/>
                <a:ea typeface="標楷體"/>
              </a:rPr>
              <a:t>目　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0F5-7C52-4F34-BB63-97FBF501B16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1560" y="220464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佛法教導我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時時觀察自己微細的念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不要被自己蒙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不論外在的境界如何變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情緒都不會受到牽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那麼，就可以斷除煩惱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人行道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1871640" cy="17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914-1C90-434C-99BB-70CB26ED85FD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煩惱是自己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如果感覺到這個環境有煩惱、有問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應該先檢討自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要責怪他人，埋怨環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佛法妙錦囊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1825560" cy="186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614-2E2D-47BE-9135-F5FF9F13A8AC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2420640"/>
            <a:ext cx="6923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當自己發現起煩惱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要感謝使你產生煩惱的人、事、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因為，他們是在幫助你修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禪與悟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2300400" cy="17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700-527A-477F-83A1-181400B444C4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8000" y="76500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來自外在的幫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只能暫時解決自己的問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而不能穿透問題的根源真正解決問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基本的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其實也是唯一有效的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就是仰賴自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透過修行來解決自己的問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《禪的智慧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645240" y="4292640"/>
            <a:ext cx="1671840" cy="208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C2C-F606-4BC1-B3B1-7ED6DBF6F28B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279000">
            <a:off x="1187280" y="476280"/>
            <a:ext cx="4321440" cy="2736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834920" y="2708280"/>
            <a:ext cx="67784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錯把無常當做永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希望接受無常的事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煩惱就會出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老得有智慧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7A5-9C9C-4F6B-9095-71C6858F65D2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492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煩惱來時，不要害怕，不要討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讓它煩去，自己不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久而久之，煩惱會愈來愈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聖嚴法師法鼓集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0280" y="3429000"/>
            <a:ext cx="2133720" cy="27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291-4A51-4E73-B372-CA64046D6929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800080"/>
                </a:solidFill>
                <a:latin typeface="Arial"/>
                <a:ea typeface="標楷體"/>
              </a:rPr>
              <a:t>第二篇　化解煩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88840" y="2287080"/>
            <a:ext cx="677880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智慧生於煩惱而用於煩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禪與悟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3211560"/>
            <a:ext cx="1698840" cy="309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FC0-AF86-403F-98DB-A0AEDADE0C67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888920"/>
            <a:ext cx="40384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00"/>
                </a:solidFill>
                <a:latin typeface="Arial"/>
              </a:rPr>
              <a:t>第三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00"/>
                </a:solidFill>
                <a:latin typeface="Arial"/>
              </a:rPr>
              <a:t>消除壓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62600" y="1600200"/>
            <a:ext cx="3409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D93-1DE3-4C20-8E67-BB2540C1278C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46040" y="3141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要跟他人比高比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只要無愧於心地盡心盡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禪門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98440"/>
            <a:ext cx="4175280" cy="25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FA1-43F4-480B-A170-315ED1B3EB7B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7280" y="113508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如何把心放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簡單地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好事不強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壞事不拒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禪的體驗‧禪的開示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372360" y="3232080"/>
            <a:ext cx="1666800" cy="293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3E9-C5C6-4813-B941-5D6736F3213F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5640" y="1888920"/>
            <a:ext cx="40384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00"/>
                </a:solidFill>
                <a:latin typeface="Arial"/>
              </a:rPr>
              <a:t>第一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00"/>
                </a:solidFill>
                <a:latin typeface="Arial"/>
              </a:rPr>
              <a:t>和喜自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62600" y="1600200"/>
            <a:ext cx="3409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C9F-275B-4B43-8B55-4321E3BD62F9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169040" y="5229360"/>
            <a:ext cx="1724040" cy="1476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生活的壓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是由自我與環境的對立所造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家庭生計的壓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是由經濟收支不能平衡所造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工作的壓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是因個人稟賦及缺乏安全感所造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如果能不受外在正面或負面現象的影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心理壓力自然消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若能加上樂天知命的修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不論遇到順境和逆境，都能淡化與美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禪門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387-ABE3-448F-9EC2-B9F9965B7267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把工作當成是一種奉獻的機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是一種藝術的把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是一種生命的欣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就能在輕鬆的身心狀態下把工作做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人間世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77080" y="3446640"/>
            <a:ext cx="1419120" cy="27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7BE-9CFD-480F-917C-23CEE32C2D80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2563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以自己的人力、物力、條件和情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調整自己的腳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理上沒有壓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只是努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放下壓力吧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51280" y="692280"/>
            <a:ext cx="1619280" cy="163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16E-9F8E-4C51-B643-6341DB5E2E9A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227808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享受工作，享受生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感覺是一件非常愉快的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那就不會緊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也就沒有壓力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忙得快樂累得歡喜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19999800">
            <a:off x="1106280" y="155160"/>
            <a:ext cx="2377800" cy="23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6CA-0363-4B0B-9A8C-902E864C63D5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有些人不僅擔心已經發生過的問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對於還沒有發生的事也莫名地擔憂著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結果這也擔心、那也擔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讓自己陷入永無止境的憂慮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這些都是杞人憂天的錯誤想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世間本是無常、多變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凡事只要因應得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問題便能迎刃而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人間世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1744560" cy="16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414-D1A8-4452-989D-DA2511745DC3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8000" y="909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沒有負擔是最舒服的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人只要有期待，就有負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只要想排斥，也是負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所以面對生活應該要不期待也不排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隨時練習放下、放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智慧一○○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08584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B07-024A-4FFE-AB60-F8A9A1EF9FD6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26560" y="2503080"/>
            <a:ext cx="721044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提起之後必須放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才會隨順因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舒卷自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能大能小，自由自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禪的世界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64000" y="498600"/>
            <a:ext cx="1798560" cy="170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C5F-55CF-44DB-8BED-F91BE309AE63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04840" y="11970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滅少壓力的辦法很簡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少一點得失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多一點自知之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然後在確定方向之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要能夠全力以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是非要溫柔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746360" cy="296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31A-7BFF-4F53-9B7A-4FC70D19FF7C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頭腦休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可輕鬆面對煩躁的狀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放開心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靜觀世間萬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壓力便找不到自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人間世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11640" y="6127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三篇　消除壓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724360" y="4545000"/>
            <a:ext cx="2881440" cy="19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AAE-4220-4F97-9EEB-2622B9D882C6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1888920"/>
            <a:ext cx="40384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Arial"/>
              </a:rPr>
              <a:t>第四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Arial"/>
              </a:rPr>
              <a:t>知足常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62600" y="1600200"/>
            <a:ext cx="3409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77A-2C4B-4A66-AF97-23269B47E23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538200"/>
            <a:ext cx="4392720" cy="2098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56000" y="2608200"/>
            <a:ext cx="403848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日日是好日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人人是好人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事事是好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忙得快樂累得歡喜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44B-C9EC-4C1D-8D30-ECD48CB3E643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06400" y="1412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人「</a:t>
            </a: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需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」的東西不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但「</a:t>
            </a: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想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」的東西太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因而造成自己的忙碌、緊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給自己帶來很多的壓迫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是非要溫柔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90720" y="41688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256-7E7A-4F50-A158-A4368C7FF2D9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8000" y="1052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有也足，無也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多也足，少也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Arial"/>
              </a:rPr>
              <a:t>好也滿足，不好也滿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這是一種內心自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安樂、穩定、自在的最好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知足最滿足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64480" y="4365720"/>
            <a:ext cx="914400" cy="18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FFF-E4AF-484E-993F-66DFA02027A2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92280" y="4149720"/>
            <a:ext cx="1863720" cy="1943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35120" y="90756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物質的貪求是沒有止境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已經有了的，希望多一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多了又希望更多，永無滿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就像是口渴的人喝鹽水一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愈喝愈渴，愈渴愈喝，最後變成死路一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物質生活不能沒有，但要適可而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Arial"/>
              </a:rPr>
              <a:t>要知足、惜福，就會滿足快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聖嚴法師心靈環保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1B5-C86B-4AB9-AD76-7CAF27FBB305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06400" y="1196640"/>
            <a:ext cx="6718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少欲知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就不會有強烈的欲望而貪得無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就能夠安自己的心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平安的人間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292720" y="3421080"/>
            <a:ext cx="3097080" cy="288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1FF-81A7-47EE-BC62-B63152F9DC52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知足不是懈怠懶惰、不事生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而是安於自己能得到的和所得到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並且常常有餘裕分享給他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智慧一○○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2155680" cy="213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4D0-8A28-4FCC-B7CF-45F5104EBA90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403280" y="388800"/>
            <a:ext cx="3889440" cy="24638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74760" y="285264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少欲、知足是對自己而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惜福、培福則是對已經擁有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要盡量愛惜、不要浪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聖嚴法師與人文對話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D38-B59C-46B4-98FF-4678DBF7B1AD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116760" y="3933720"/>
            <a:ext cx="2055600" cy="2305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61920" y="1341360"/>
            <a:ext cx="6778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少欲的人，其心坦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無所憂慮，無所畏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遇到任何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無論多少，都覺得滿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佛遺教經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772-A528-4271-9CAE-4D4DD0D68EEC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9040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對自己負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需要練習控制自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要能夠不受環境的誘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獨立做自己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16120" y="2924280"/>
            <a:ext cx="17398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7E3-0B24-461F-8333-134F9E3A6570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盡自己的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能過什麼樣的生活就過什麼樣的生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能得多少就得多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應該得到的，不執著一定要擁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順應所處的環境，生活就會快樂一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知足最滿足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5600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55640" y="4032360"/>
            <a:ext cx="2879640" cy="24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E34-6122-44AD-A280-B32DE9F810D5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「知足」並不等於放棄生存的權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也不等於放棄工作的責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更不等於放棄努力進步的機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而是順應自然、適應社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因應所處的環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是非要溫柔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71640" y="4597560"/>
            <a:ext cx="2232000" cy="166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0C1-9ED0-4D53-BE38-FD9BD5EC9C1A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42920" y="691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所謂「逆向思考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並不等於逆來順受或隨波逐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而是清清楚楚地知道問題的癥結所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勇於面對，歡喜接受，盡心盡力處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然後，放下一切的結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管過程圓滿與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無罣礙，隨意自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法鼓晨音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3040" y="3213000"/>
            <a:ext cx="2244600" cy="29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249-6CF9-46AD-8A80-D8639C22F9AB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與其爭取不可能得到的東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不如善自珍惜運用自己所擁有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聖嚴法師心靈環保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185436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06D-180F-4813-A3A6-70984E2B0478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7948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人生的快樂和幸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不等於物質財富的擁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不能從經濟條件的好壞來定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真正的財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在於內心世界的寬廣、豁達與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更重要的是有一顆慈悲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以慈悲心對待眾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由衷地為社會、族群，乃至整個世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奉獻自己的一份心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人間世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1779840" cy="180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853-BB3B-475E-AC5A-1424A305222C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7704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靈的充實比物質的擁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是更可貴的財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如何渡過日子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635280" y="549360"/>
            <a:ext cx="1944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EA9-9176-4497-88BF-ABDC46D7635F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0" y="38160"/>
            <a:ext cx="9180720" cy="6813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04480" y="1744200"/>
            <a:ext cx="67071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平安就是幸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知足即有快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法源血緣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19480" y="6164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Arial"/>
                <a:ea typeface="標楷體"/>
              </a:rPr>
              <a:t>第四篇　知足常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023240" y="3441600"/>
            <a:ext cx="1004760" cy="24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046-C101-4826-AB8C-D1E7323DB096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1280" y="2421000"/>
            <a:ext cx="7354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5600"/>
                </a:solidFill>
                <a:latin typeface="Arial"/>
              </a:rPr>
              <a:t>快樂並不在於有與非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5600"/>
                </a:solidFill>
                <a:latin typeface="Arial"/>
              </a:rPr>
              <a:t>而是在於珍惜與知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5600"/>
                </a:solidFill>
                <a:latin typeface="Arial"/>
              </a:rPr>
              <a:t>人生時時刻刻都是新的體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5600"/>
                </a:solidFill>
                <a:latin typeface="Arial"/>
              </a:rPr>
              <a:t>懂得體會當下的感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5600"/>
                </a:solidFill>
                <a:latin typeface="Arial"/>
              </a:rPr>
              <a:t>原來，快樂就是那麼簡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04000" y="3978360"/>
            <a:ext cx="1647720" cy="2187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419640" y="404640"/>
            <a:ext cx="1747800" cy="175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1DD-EAF8-40F1-8469-D28604A039D0}" type="slidenum">
              <a:t>54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29920" y="1700280"/>
            <a:ext cx="7426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沒有什麼不公平、不合理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只要自己心平氣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活便能快樂一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如何化解仇恨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51520" y="4149720"/>
            <a:ext cx="1884240" cy="20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C4D-2BE0-485C-B665-E21A0B12B1E3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60120" y="1672920"/>
            <a:ext cx="74278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真正的快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在於珍惜我們每一個念頭與行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人間世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2016000" cy="22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091-32D1-4E0B-B91F-AF297064DAD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360" y="76500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從苦難中走出來的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即使正在受苦，也不會覺得那麼痛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因為對他來說，已沒有苦難這回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能不以苦難為苦難，這就是真正的滅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因此，消極的出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並不能帶來真實的快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只有積極的知苦、體會苦，從苦難中成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才可以真正的離苦得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快樂自己決定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1809720" cy="171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E47-E6C1-4BE6-AE69-80C132B2100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38280" y="2536920"/>
            <a:ext cx="6562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沒有閒事掛在心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就是過著人間賞心樂事的時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《聖嚴說禪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9018800">
            <a:off x="1634760" y="115560"/>
            <a:ext cx="2376360" cy="244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84720" y="6200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00"/>
                </a:solidFill>
                <a:latin typeface="Arial"/>
                <a:ea typeface="標楷體"/>
              </a:rPr>
              <a:t>第一篇　和喜自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9A6-90B7-4360-A03C-0AF5CB630518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3:00:38Z</dcterms:created>
  <dc:creator/>
  <dc:description/>
  <dc:language>en-US</dc:language>
  <cp:lastModifiedBy>JME</cp:lastModifiedBy>
  <dcterms:modified xsi:type="dcterms:W3CDTF">2005-08-03T03:43:56Z</dcterms:modified>
  <cp:revision>109</cp:revision>
  <dc:subject/>
  <dc:title>聖嚴法師　著 快樂人生 100帖</dc:title>
</cp:coreProperties>
</file>