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25000" y="325080"/>
            <a:ext cx="6195960" cy="46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5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17680" y="5298840"/>
            <a:ext cx="554040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" y="9510840"/>
            <a:ext cx="6524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fld id="{46BD5005-6DF0-4817-8F55-60EC7468E9D0}" type="slidenum"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07800" y="303120"/>
            <a:ext cx="6027840" cy="452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09680" y="5167080"/>
            <a:ext cx="580392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 presentation is structured in 6 chap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120">
              <a:spcAft>
                <a:spcPts val="56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three are solution independent and provide general information about Ramp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120">
              <a:spcAft>
                <a:spcPts val="56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The last three offer in-depth information about the actual SAP R/3 Enterprise Ramp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 chapter “Ramp-Up at a glance” gives a first view on the topics of the Ramp-Up proc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o go more in detail “Ramp-Up process in more detail” explains the several steps of the Ramp-Up proc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A very helpful information for a customer decision will be given in the chapter “Benefits to customer and SAP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ince this presentation is SAP R/3 Enterprise related, the chapter “Ramp-Up process for SAP R/3 Enterprise” will give SAP R/3 Enterprise specif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 “conclusion” should help to remember the most important aspects of the Ramp-Up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624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 last chapter provides a summary of all information resources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560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  <a:ea typeface="新細明體"/>
              </a:rPr>
              <a:t> 2002, Ramp-Up of SAP R/3 Enterprise - Status  </a:t>
            </a:r>
            <a:fld id="{1B85E2BC-EBD2-4394-A86A-BC7F51854579}" type="slidenum">
              <a:rPr b="0" lang="en-US" sz="700" spc="-1" strike="noStrike">
                <a:solidFill>
                  <a:srgbClr val="b2b2b2"/>
                </a:solidFill>
                <a:latin typeface="Arial"/>
                <a:ea typeface="新細明體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4400" y="6299280"/>
            <a:ext cx="9144000" cy="54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20960" y="1000080"/>
            <a:ext cx="598320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5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38088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861840" algn="ctr">
              <a:spcBef>
                <a:spcPts val="400"/>
              </a:spcBef>
              <a:spcAft>
                <a:spcPts val="99"/>
              </a:spcAft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24308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36560" y="5091120"/>
            <a:ext cx="2451240" cy="176688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d4d4d"/>
                </a:solidFill>
                <a:latin typeface="Arial"/>
                <a:ea typeface="新細明體"/>
              </a:rPr>
              <a:t>書名︰喜歡自己</a:t>
            </a:r>
            <a:br>
              <a:rPr sz="2000"/>
            </a:br>
            <a:r>
              <a:rPr b="1" lang="zh-TW" sz="2000" spc="-1" strike="noStrike">
                <a:solidFill>
                  <a:srgbClr val="4d4d4d"/>
                </a:solidFill>
                <a:latin typeface="Arial"/>
                <a:ea typeface="新細明體"/>
              </a:rPr>
              <a:t>作者︰帕爾摩</a:t>
            </a:r>
            <a:br>
              <a:rPr sz="2000"/>
            </a:br>
            <a:r>
              <a:rPr b="1" lang="zh-TW" sz="2000" spc="-1" strike="noStrike">
                <a:solidFill>
                  <a:srgbClr val="4d4d4d"/>
                </a:solidFill>
                <a:latin typeface="Arial"/>
                <a:ea typeface="新細明體"/>
              </a:rPr>
              <a:t>出版︰生命潛能</a:t>
            </a: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2847960" y="2254320"/>
            <a:ext cx="2800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  <a:ea typeface="新細明體"/>
              </a:rPr>
              <a:t>喜歡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11960" y="3179880"/>
            <a:ext cx="2732040" cy="367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66960" y="0"/>
            <a:ext cx="6377040" cy="212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680" y="5035680"/>
            <a:ext cx="1204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認清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肯定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珍惜人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三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說出心中話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說出自己的感覺和想法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503440"/>
            <a:ext cx="8940960" cy="4354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4360" y="969840"/>
            <a:ext cx="8226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說出自己心裏的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並不會傷害到別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表達心中的感受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學習用下列句子開頭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來表達自己的感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認為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覺得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想要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期望別人能完全瞭解你的感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26120" y="5288040"/>
            <a:ext cx="30178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53800" y="5589720"/>
            <a:ext cx="70498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1.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父母親帶小孩買衣服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小孩堅持要買大一點的衣服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因為這樣才帥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2.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買了皮鞋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小孩不穿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喜歡拖鞋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因為這樣才酷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三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說出心中話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說出自己的感覺和想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0280" y="1133640"/>
            <a:ext cx="7326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5440" y="843120"/>
            <a:ext cx="8545680" cy="56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是一個獨立的個體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擁有和別人不同的特質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給自己更多的包含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讓自己成為一個真正的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變的麻本不仁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可以生氣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可以難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快樂的時候可以大叫…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做真正的自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知道自己的長處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瞭解自己特殊的地方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尊重自己的個性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允許自己犯錯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將犯錯當成學習的機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重要的是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重覆犯同樣的錯誤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訓練自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改變自己所習慣的事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從討厭的顏色中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找到喜歡的理由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嚐試不同的食物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改變一下自己喜歡的運動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六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讓自己能隨性而至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並不是每件事都要有理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只要不傷害別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想做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儘量去做什麼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四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給自己更多的包容—讓自己快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72760" y="857160"/>
            <a:ext cx="82263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停止做事一分鐘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檢查你的身體要告訴你什麼事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想睡覺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在深呼吸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胃不舒服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腳受傷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頭痛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眼睛不舒服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學著傾聽身體的訊號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找出問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讓問題持續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吸收太陽能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想像你的肚子充滿了陽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能量及溫暖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五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身體會說話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學會傾聽身體的訊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34040" y="696960"/>
            <a:ext cx="1899000" cy="2921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493040" y="4965840"/>
            <a:ext cx="1650960" cy="1892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1854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2760" y="856800"/>
            <a:ext cx="822636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當你真心愛一隻小狗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小貓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會讓它自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是牢牢的圏住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;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當你愛一個人的時候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學習讓他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她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有更多的自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學會給對方更大的自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就是尊重別人的特質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幫助別人成為他自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當你在打球時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的朋友可以在上課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;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許多東西有不同的形狀及顏色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但你依然喜歡它們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要求或期望“每個人都要喜歡你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你不一定要喜歡麵包師父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才能買蛋糕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醫生不一定要喜歡你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才能幫你治療病痛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別人不喜歡你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並不表示你很差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表示你做人失敗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為了想討好別人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就必需迎合別人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而你的時間都在做“別人希望做的事”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你就不能成為真正的你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六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認為男人必須非常堅強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論男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女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男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女孩都是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都有哭的權利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學習和自己互動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別人的標準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一定適合自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六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該放掉就放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72760" y="856800"/>
            <a:ext cx="8226360" cy="45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心理學家說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每個成人的人生可說都是以兩種愛為主軸。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一種愛──對兩性之愛的追求。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二種愛──對身分地位的追求──則較為私密，而且過程充滿羞辱。然而，第二種愛的強度卻毫不遜於第一種。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無論古今東西，身份地位如此誘人，芸芸眾生競相追逐。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在這樣孜孜以求的背後，隱藏著一種極少人能夠坦然承認的「地位焦慮」：顧慮別人如何看待自己，顧慮自己在別人眼中究竟是成功還是失敗。而依附權貴、鑽營投機、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為了妝點門面而過度消費，都是典型的症狀，造成人們晚上輾轉難眠。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注意自己的慾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那是每個人最脆弱的地方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六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該放掉就放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2760" y="856800"/>
            <a:ext cx="8226360" cy="45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貿然接受社會上大多數人所信奉的金科玉律是很危險的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在今日的資本主義社會中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常會有一些人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事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物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向我們傾銷不實的觀點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如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手機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這些事物佔據我們的時間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無法看到事情的真相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從某個角度來看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汽車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房子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音響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工作等身外物都是裝備而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生命的真諦在於學到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笑的開不開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有沒有愛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從小就開始得到許多身外之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並學習喜歡身外之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傾全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開始獲取這些身外之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用一生的精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換取更大的房子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更豪華的車子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但很少人停下來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問問自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真正要的是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我的價值為何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結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2760" y="856800"/>
            <a:ext cx="8226360" cy="45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你喜歡自己嗎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你常因工作而忘了吃飯；累的時候，仍一直工作不肯休息…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雨天出門，懶得帶傘；寒風來襲，懶得加外衣…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醫生說煙酒和咖啡對身體都不好，你卻定時定量補給尼古丁、酒精和咖啡因……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你說會自己照顧自己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但實際上是在折磨自己的身體…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你說你很喜歡自己，可是，卻好像不知道怎麼好好對自己。</a:t>
            </a:r>
            <a:br>
              <a:rPr sz="2000"/>
            </a:br>
            <a:br>
              <a:rPr sz="2000"/>
            </a:b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好好吃飯、好好休息、好好工作、好好穿衣，這就是好好對自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愛自己，也不過就是從吃飯穿衣這種日常瑣事做起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結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80720" cy="6851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06400" y="1412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人「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  <a:ea typeface="新細明體"/>
              </a:rPr>
              <a:t>需要</a:t>
            </a: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」的東西不多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但「</a:t>
            </a:r>
            <a:r>
              <a:rPr b="1" lang="zh-TW" sz="2000" spc="-1" strike="noStrike">
                <a:solidFill>
                  <a:srgbClr val="cc0000"/>
                </a:solidFill>
                <a:latin typeface="Arial"/>
                <a:ea typeface="新細明體"/>
              </a:rPr>
              <a:t>想要</a:t>
            </a: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」的東西太多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因而造成自己的忙碌、緊張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給自己帶來很多的壓迫感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Arial"/>
                <a:ea typeface="新細明體"/>
              </a:rPr>
              <a:t>《是非要溫柔》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925960" y="4024440"/>
            <a:ext cx="1997280" cy="19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904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對自己負責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需要練習控制自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Arial"/>
                <a:ea typeface="新細明體"/>
              </a:rPr>
              <a:t>要能夠不受環境的誘惑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33"/>
                </a:solidFill>
                <a:latin typeface="Arial"/>
                <a:ea typeface="新細明體"/>
              </a:rPr>
              <a:t>《獨立做自己》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52960" y="3097080"/>
            <a:ext cx="17402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0680" y="856800"/>
            <a:ext cx="848844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偽裝讓人失去真我，而討好別人，最終並不能贏得人們衷心的喜愛。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沒有人能知道自己是不是真的受人歡迎，可是每一個人都可以捫心自問：你是不是喜歡自己？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心理學家凱特發現，要讓別人真正喜歡你，就</a:t>
            </a:r>
            <a:r>
              <a:rPr b="1" lang="zh-TW" sz="2000" spc="-1" strike="noStrike">
                <a:solidFill>
                  <a:srgbClr val="ff3300"/>
                </a:solidFill>
                <a:latin typeface="標楷體"/>
                <a:ea typeface="標楷體"/>
              </a:rPr>
              <a:t>要培養喜歡自己的特質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。也許你會感到相當驚訝，因為一般人認為可以吸引人的美貌、魅力、人際關係等等，並不是你需要具備的特質。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這個世界上有很多人生得既不美麗，又不富有，可是卻能受到朋友的喜愛，最重要的原因是：他們真心喜歡自己。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22960" y="4386240"/>
            <a:ext cx="3821040" cy="247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0040" y="444168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你喜歡你自己嗎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9560" y="5710320"/>
            <a:ext cx="33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常常羡慕別人嗎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34440" y="2830320"/>
            <a:ext cx="38386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1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5600"/>
                </a:solidFill>
                <a:latin typeface="標楷體"/>
                <a:ea typeface="標楷體"/>
              </a:rPr>
              <a:t>快樂並不在於有與非有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1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5600"/>
                </a:solidFill>
                <a:latin typeface="標楷體"/>
                <a:ea typeface="標楷體"/>
              </a:rPr>
              <a:t>而是在於珍惜與知足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1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5600"/>
                </a:solidFill>
                <a:latin typeface="標楷體"/>
                <a:ea typeface="標楷體"/>
              </a:rPr>
              <a:t>人生時時刻刻都是新的體驗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1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5600"/>
                </a:solidFill>
                <a:latin typeface="標楷體"/>
                <a:ea typeface="標楷體"/>
              </a:rPr>
              <a:t>懂得體會當下的感受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1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5600"/>
                </a:solidFill>
                <a:latin typeface="標楷體"/>
                <a:ea typeface="標楷體"/>
              </a:rPr>
              <a:t>原來，快樂就是那麼簡單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04000" y="3978360"/>
            <a:ext cx="1647720" cy="2187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44760" y="797040"/>
            <a:ext cx="2924280" cy="239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111120" y="958680"/>
            <a:ext cx="2158920" cy="5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這是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前言—有趣的實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79600" y="2467080"/>
            <a:ext cx="3554640" cy="2960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73120" y="856800"/>
            <a:ext cx="6789600" cy="45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晚上從圓窗外看出出的天空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滾成一球的黑熊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馬的眼睛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超大彈珠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水管的裏面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一塊巧克力餅乾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當我們還小時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每個人都有豐富的想像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能從不同的角度看世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知在那個轉淚點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上天給我們的天份開始消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為了獲得認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慢慢的被影響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被約束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很少問為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只是照著做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失去了心智上的彈性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也停止發自內心的關注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可能的答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511960"/>
            <a:ext cx="1790640" cy="1346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38880" y="612720"/>
            <a:ext cx="19051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357360" y="960120"/>
            <a:ext cx="2493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是什麼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前言—有趣的實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4080" y="6046920"/>
            <a:ext cx="2843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5688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是什麼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9080" y="3513240"/>
            <a:ext cx="21020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5688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是什麼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9360" y="3529080"/>
            <a:ext cx="2262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5688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你是什麼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36880" y="2138400"/>
            <a:ext cx="3908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60480" y="2119320"/>
            <a:ext cx="7051680" cy="4210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Black"/>
                <a:ea typeface="新細明體"/>
              </a:rPr>
              <a:t>Content</a:t>
            </a:r>
            <a:endParaRPr b="0" lang="en-US" sz="28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2765520" y="3575160"/>
            <a:ext cx="5692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三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說出心中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65520" y="2219400"/>
            <a:ext cx="5616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一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喜歡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09960" y="2174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9960" y="354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17400"/>
            <a:ext cx="2092320" cy="5945400"/>
            <a:chOff x="0" y="617400"/>
            <a:chExt cx="2092320" cy="5945400"/>
          </a:xfrm>
        </p:grpSpPr>
        <p:sp>
          <p:nvSpPr>
            <p:cNvPr id="114" name=""/>
            <p:cNvSpPr/>
            <p:nvPr/>
          </p:nvSpPr>
          <p:spPr>
            <a:xfrm>
              <a:off x="0" y="617400"/>
              <a:ext cx="2092320" cy="5945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0" y="617400"/>
              <a:ext cx="2092320" cy="14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2765520" y="2863800"/>
            <a:ext cx="5692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二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情緒與感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92320" y="2832120"/>
            <a:ext cx="7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4640" y="4294080"/>
            <a:ext cx="569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四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給自己更多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89080" y="4262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2680" y="4984920"/>
            <a:ext cx="5692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五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身體會說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7120" y="4952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5645160"/>
            <a:ext cx="5692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六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該放掉就放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32200" y="561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一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喜歡自己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做自己的好朋友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5680" y="1741320"/>
            <a:ext cx="7051680" cy="4210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914040"/>
            <a:ext cx="8226360" cy="56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將自己喜歡做的事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寫下來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喜歡唱歌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做點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吃頓飯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彈琴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跳舞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看美女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每天做一件自己喜歡的事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當作給自己的禮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多久沒送禮物給自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)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做自己的好朋友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期望每個人都會喜歡你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勉強自己喜歡每一個人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停止做自己不喜歡的事情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要對自己說些好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有建設性的話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沒有人是十全十美的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要擔心自己不夠優秀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認清自己的優點及缺點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瞭解自己能力的限制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做自己能力所能做的事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每天告訴自己—我是可愛又有價值的人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78760" y="6793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9920" y="783720"/>
            <a:ext cx="822636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情緒像是溫度計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讓我們知道那裏不對勁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在乎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要什麼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被人超車時很生氣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找了很久的停車位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被人插隊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試試看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問自己何時會感到寂寞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何時會傷心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何時會害怕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何時快樂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時時留意自己的情緒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試著找出原因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這種練習可以幫助你瞭解自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真正的你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別人眼中的你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90000"/>
              </a:lnSpc>
              <a:spcBef>
                <a:spcPts val="451"/>
              </a:spcBef>
              <a:spcAft>
                <a:spcPts val="113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自己認為的你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我們可以阻礙自己的感覺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假裝麻本不仁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但無法改變內心深處真實敏銳的感受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一些負面的情緒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學習面對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瞭解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將這些負面情緒釋放出來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用盡各種方法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要這些負面情緒停止傷害自己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練習—最近自己生氣的事是什麼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-568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六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壓抑情緒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最後可能一發不可收拾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傷害你的健康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或讓你不自主的傷害別人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二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情緒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讓你瞭解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2760" y="856800"/>
            <a:ext cx="822636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常見的情緒反應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快樂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高興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興奮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愉快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生氣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憤怒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受到傷害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傷心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火冒三丈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寂莫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失望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挫折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自在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沮喪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333333"/>
              </a:buClr>
              <a:buFont typeface="Wingdings" charset="2"/>
              <a:buChar char="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鬆了一口氣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不耐煩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害怕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208080"/>
            <a:ext cx="822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第二章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.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情緒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讓你瞭解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0040" y="5229360"/>
            <a:ext cx="1892520" cy="142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0080" y="1379520"/>
            <a:ext cx="1422360" cy="1892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40160" y="3543480"/>
            <a:ext cx="1422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26:00Z</dcterms:created>
  <dc:creator>d026261</dc:creator>
  <dc:description/>
  <dc:language>en-US</dc:language>
  <cp:lastModifiedBy>mi</cp:lastModifiedBy>
  <dcterms:modified xsi:type="dcterms:W3CDTF">2005-12-14T14:44:31Z</dcterms:modified>
  <cp:revision>388</cp:revision>
  <dc:subject/>
  <dc:title>Status  Ramp-Up SAP R/3 Enterprise</dc:title>
</cp:coreProperties>
</file>