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8EAA-B814-475E-B7C4-06C04ECD9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EBF0-A579-4ED5-A5AB-73AF72EA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C8D1-D2F9-47DA-90AD-3FE41D5D3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DBA2-C555-40A9-970B-8ED4F2F7D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936F-9B0B-45AE-9275-FAE87043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9BD0-A2CF-48CE-8E2A-C0AF4B03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A085-881B-41E3-B090-484630D8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ABB5-2A39-4A6A-8AEC-F7CE4327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3BD8-41E6-414F-907F-BC75716F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0A68-13CD-4478-8464-AC835793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A179-4F00-4C89-BFA1-77906BB7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064D-BB79-439D-96B8-82740CA4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40CC-2C4E-4696-8B82-EEA047B11427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海中生物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海中生物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海中生物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海中生物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海中生物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berthella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piro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hermes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barn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海中生物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海中生物3" descr=""/>
          <p:cNvPicPr/>
          <p:nvPr/>
        </p:nvPicPr>
        <p:blipFill>
          <a:blip r:embed="rId1"/>
          <a:stretch/>
        </p:blipFill>
        <p:spPr>
          <a:xfrm>
            <a:off x="0" y="-76320"/>
            <a:ext cx="922032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海中生物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海中生物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海中生物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海中生物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海中生物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海中生物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06:11:53Z</dcterms:created>
  <dc:creator>審計部</dc:creator>
  <dc:description/>
  <dc:language>en-US</dc:language>
  <cp:lastModifiedBy>審計部</cp:lastModifiedBy>
  <dcterms:modified xsi:type="dcterms:W3CDTF">2003-01-03T06:14:35Z</dcterms:modified>
  <cp:revision>3</cp:revision>
  <dc:subject/>
  <dc:title>PowerPoint 簡報</dc:title>
</cp:coreProperties>
</file>