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5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62360" y="585000"/>
            <a:ext cx="2895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62360" y="585000"/>
            <a:ext cx="2895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562360" y="585000"/>
            <a:ext cx="2895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562360" y="585000"/>
            <a:ext cx="2895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562360" y="585000"/>
            <a:ext cx="2895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62360" y="585000"/>
            <a:ext cx="2895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562360" y="585000"/>
            <a:ext cx="2895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562360" y="609120"/>
            <a:ext cx="2895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62360" y="585000"/>
            <a:ext cx="2895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62360" y="585000"/>
            <a:ext cx="2895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62360" y="585000"/>
            <a:ext cx="2895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62360" y="609120"/>
            <a:ext cx="2895480" cy="11430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21896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464796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故  事  開  始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4724280" cy="4495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371600" y="4647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巨人雖然會罵羅蘭笨，但他發過脾氣後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也會覺得不好意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6286680" cy="3809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0968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巨人會彈一段琴給羅蘭聽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440840" cy="44769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14240" y="685800"/>
            <a:ext cx="5257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或念一段故事給羅蘭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400800" cy="4114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133720" y="4723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時間一點一的過去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他們倆的感情也一點增加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6096240" cy="40561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905120" y="5105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羅蘭想要讓屋子有更多的生命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他開始種花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6526440" cy="4572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13372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羅蘭像照顧小孩一樣，細心養花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6400800" cy="4572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371600" y="5105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花有好的主人，自然會把最美麗的生命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出來。於是巨人的房子充滿著新的色彩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6526440" cy="43434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676520" y="5105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有一天，巨人對羅蘭說，他要出門去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過一段時間就回來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6172200" cy="39625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9051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巨人不在，羅蘭靜靜發呆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想著莫亞明天就回來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6561360" cy="43434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0" y="456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等待會讓時間的腳步陷入深深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雪地中，前進得費力又緩慢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629400" cy="4549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828800" y="4952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巨人莫亞的房子非常大，沒有管家是不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的。他的管家退休前，承諾會為他找一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新管家來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533520"/>
            <a:ext cx="6057720" cy="4160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99840" y="4800240"/>
            <a:ext cx="8210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羅蘭決定把她腦子空點地方出來。除了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亞，她要裝別的東西進去，她把巨人的書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一本一本拿來認真看。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6324840" cy="3814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23520" y="502920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羅蘭的個子小，她便從書架的最底層開始看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看完了一層，再往上看一層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6553080" cy="40388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219320" y="4876560"/>
            <a:ext cx="8532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有一天， 當她想拿放在書架上最上層的一本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時， 羅蘭發現她一站起來就拿得到， 用不著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梯子。 她長高了。 不，應該說她變高了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6477120" cy="41907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2640" y="487656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羅蘭不再是個小不點， 她可以輕鬆的向下伸手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扭轉門把來開門， 不像以前開門總要踮起腳、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手伸高， 才能把門打開。她現在不比莫亞矮 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6705720" cy="41911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371600" y="4723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羅蘭站在窗前， 她望見了以前看不到的風景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她看得更遠， 對世界更好奇。 以前她的世界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有莫亞，現在莫亞不再是她的世界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6553080" cy="40388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371600" y="4723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羅蘭決定離開， 她唯一不捨得的是她的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， 但這點牽掛並沒有綁住她。 羅蘭留下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封信，要巨人好好照顧她的花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6629400" cy="4114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837720" y="403812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大雨中， 巨人回來了。 莫亞帶著一身濕衝進門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他本來以為會有一條乾毛巾遞上來，結果只有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空的屋子等著他。他邊走進屋邊叫羅蘭，結果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聽到自己的回聲。終於，莫亞看到羅蘭的信了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外面的雨將停，他心中的雨才要開始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6476760" cy="358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295280" y="40384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巨人請了新管家。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「咦，咖啡怎麼有焦味？連煮咖啡的智商都沒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，以後還不知道會出什麼錯？」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6629400" cy="38102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440" y="42667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走了一個管家， 又來了另一個。 「唉，叫她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本書都找不到。她該不會是文盲吧？」 「天呀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講過多少次沙拉不要放葡萄乾，她就是聽不懂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人笨凡是難啊！」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6858000" cy="36576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4647960"/>
            <a:ext cx="73915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441972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4648320"/>
            <a:ext cx="678168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人一個個來，人一個個走 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莫亞就像一個裝滿炸藥的火藥庫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一點小小的火星， 就會引來大爆炸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沒有人會接近火藥庫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6553440" cy="40388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52120" y="487692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如果你是水，便應當做大河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如果你是動物，便應當做雄獅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如果你是男人，便應當做一個巨人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6705720" cy="43434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71600" y="5105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莫亞一個人， 日子越過越差。 他像沒有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水的植物，一天天走向枯萎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6553080" cy="4495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71600" y="4723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有天早上， 莫亞起身下床， 結果跌倒在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上。 莫亞抬頭看著他的床，嚇了一跳。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變小了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6400800" cy="39625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71600" y="5105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莫亞費力的把門打開， 現在他明白羅蘭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前有多辛苦。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6553080" cy="44197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320" y="4800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他在房子裡四處走動， 每樣東西都變大了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他感覺自己好小 ， 現在他能體會羅蘭的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覺了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6858000" cy="4495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90720" y="44193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魚離開水就很難活下去。 莫亞在房子裡的各個角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落， 尋找羅蘭的氣味， 但怎麼努力也找不到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羅蘭留下的只有她的花。 莫亞看著滿屋凋謝的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，想起羅蘭要他好好照顧花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6705360" cy="38862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33360" y="533376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莫亞決定不讓這些花枯萎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他開始學著如何照顧花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057040" y="49525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在莫亞的照顧下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花又恢復了生機。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6781680" cy="43434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981080" y="5028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莫亞也在院子裡種花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不久， 他院子就成了一座花園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6400800" cy="4495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71600" y="4572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莫亞還建造了一個花園迷宮， 讓附近的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孩都來玩。 他喜歡和小孩在一起，小孩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喜歡他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7010640" cy="4267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430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孩子的快樂和花的美麗， 慢慢的填滿了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亞心中的洞， 那個因為羅蘭離開而留下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洞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64771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371600" y="4266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結果來了一個長得像紫羅蘭的女孩。她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名字叫羅蘭。巨人看羅蘭這麼瘦小，懷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她是否可以做好管家的工作，但莫亞需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人幫忙，只好先試用看看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6477120" cy="39621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71600" y="5028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一天下午， 莫亞面對黃土， 背對藍天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努力的整理花園， 汗水一滴滴落在土中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6705720" cy="44197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828800" y="5029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然後，他直著身子 ， 閉著眼睛， 享受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風吹來的清涼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6705720" cy="4724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447920" y="495288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莫亞張開眼睛， 發現他回到了原來的高度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還更高一點 ，他可以看的更遠。遠遠的，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看到一個女孩向他走來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6858000" cy="42670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981080" y="51055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那高高的女孩好像是羅蘭…</a:t>
            </a: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7400" y="609480"/>
            <a:ext cx="6629400" cy="4648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980720" y="5029200"/>
            <a:ext cx="4419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是的， 就是羅蘭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6629400" cy="4952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980720" y="48002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當魚離開水時， 魚會活不下去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水也會失去生命 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6705720" cy="4648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447560" y="4266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現在，羅蘭和莫亞可以看得一樣高 、 一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遠。 莫亞再也不是羅蘭的巨人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6858000" cy="47242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133720" y="4876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如果你有石頭，便應當做磁石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如果你是植物，便應當做玫瑰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6782040" cy="44960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676520" y="4800240"/>
            <a:ext cx="6858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如果你是人，便應當做戀人。</a:t>
            </a: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(</a:t>
            </a: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故事完</a:t>
            </a: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08000" y="380880"/>
            <a:ext cx="6702480" cy="44960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12000" y="260280"/>
            <a:ext cx="2535120" cy="88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心情分享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66"/>
                </a:solidFill>
                <a:latin typeface="標楷體"/>
                <a:ea typeface="標楷體"/>
              </a:rPr>
              <a:t>書店裡，這本書的封面吸引了我，書名讓我更想翻閱究竟，開頭剛強的比擬手法深得我心，結尾的柔更堅定我的選擇，開頭結尾合成一首詩，一個美麗的故事。彷彿看了一部文字電影。在過去和現代的兩性裡，都存在著像書中巨人莫亞和羅蘭的人，只活在有你的世界，以為就是一切、就是天。當有一天變了，失落也隨之而生，任憑枯萎退縮。之後得學習過著一個人孤獨的情境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66"/>
                </a:solidFill>
                <a:latin typeface="標楷體"/>
                <a:ea typeface="標楷體"/>
              </a:rPr>
              <a:t>很多的時候我們必須做決定，也總有一條路讓自己走出去，從「新」開始，也從「心」找到自己。讀了這本繪本，我想不管現在的你是等待愛的人，還是已經找到愛的人，或者不幸地失去愛的人，請讀一讀這本書，且不忘做到【好好照顧你的花】，成就一座美麗花園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66"/>
                </a:solidFill>
                <a:latin typeface="標楷體"/>
                <a:ea typeface="標楷體"/>
              </a:rPr>
              <a:t>          </a:t>
            </a:r>
            <a:r>
              <a:rPr b="0" lang="zh-TW" sz="2000" spc="-1" strike="noStrike">
                <a:solidFill>
                  <a:srgbClr val="660066"/>
                </a:solidFill>
                <a:latin typeface="標楷體"/>
                <a:ea typeface="標楷體"/>
              </a:rPr>
              <a:t>                     </a:t>
            </a:r>
            <a:r>
              <a:rPr b="0" lang="zh-TW" sz="2800" spc="-1" strike="noStrike">
                <a:solidFill>
                  <a:srgbClr val="660066"/>
                </a:solidFill>
                <a:latin typeface="標楷體"/>
                <a:ea typeface="標楷體"/>
              </a:rPr>
              <a:t>紫熹房 </a:t>
            </a:r>
            <a:r>
              <a:rPr b="0" lang="zh-TW" sz="2800" spc="-1" strike="noStrike">
                <a:solidFill>
                  <a:srgbClr val="660066"/>
                </a:solidFill>
                <a:latin typeface="標楷體"/>
                <a:ea typeface="標楷體"/>
              </a:rPr>
              <a:t>Sunny </a:t>
            </a:r>
            <a:r>
              <a:rPr b="0" lang="zh-TW" sz="2800" spc="-1" strike="noStrike">
                <a:solidFill>
                  <a:srgbClr val="660066"/>
                </a:solidFill>
                <a:latin typeface="新細明體"/>
              </a:rPr>
              <a:t>Apr </a:t>
            </a:r>
            <a:r>
              <a:rPr b="0" lang="zh-TW" sz="2800" spc="-1" strike="noStrike">
                <a:solidFill>
                  <a:srgbClr val="660066"/>
                </a:solidFill>
                <a:latin typeface="標楷體"/>
                <a:ea typeface="標楷體"/>
              </a:rPr>
              <a:t>10</a:t>
            </a:r>
            <a:r>
              <a:rPr b="0" lang="zh-TW" sz="2800" spc="-1" strike="noStrike">
                <a:solidFill>
                  <a:srgbClr val="660066"/>
                </a:solidFill>
                <a:latin typeface="新細明體"/>
              </a:rPr>
              <a:t> ,2004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9810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每天，天一亮，羅蘭便起床做早餐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715000" cy="44780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09320" y="533160"/>
            <a:ext cx="61722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※ </a:t>
            </a:r>
            <a:r>
              <a:rPr b="1" lang="zh-TW" sz="3600" spc="-1" strike="noStrike">
                <a:solidFill>
                  <a:srgbClr val="ffff00"/>
                </a:solidFill>
                <a:latin typeface="新細明體"/>
              </a:rPr>
              <a:t>一 說 再 說 的 故 事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09120" y="213372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        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說到故事，沒有人不喜歡，因為生活的本身就是故事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每天我們都在創造不一樣的故事，成長的過程便這麼一點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滴累積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       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美國心理學家說：『說故事是一種送禮物的方式。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所以聽故事的人要專心與感恩，領會作者的用心與作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的美善，用孩子的眼光與赤子心，感受世界的真善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                                                         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紫熹房 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Sunny  May 26 200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144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848400" cy="4495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書名：好好照顧我的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作者：郝廣才 圖：吉恩盧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出版社：格林文化公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初版日期：</a:t>
            </a: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2003</a:t>
            </a: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年 </a:t>
            </a: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12</a:t>
            </a: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月 </a:t>
            </a: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01 </a:t>
            </a: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定價：</a:t>
            </a: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249</a:t>
            </a: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84560" y="57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533520"/>
            <a:ext cx="60195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※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郝 廣 才 最 新 力 作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 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47960" y="761760"/>
            <a:ext cx="28954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作者簡介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郝廣才擅長以說故事的方式，探討人生中的重要議題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在這本《好好照顧我的花》中，他以簡潔的文句，勾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出現代人常面臨的難題，並巧妙融入明喻、暗喻、類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等手法，詮釋愛情與人生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郝廣才著作豐富，著有《起床啦，皇帝》、《新世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童話繪本》系列、《一片披薩一塊錢》、《帶著房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離家出走》、《第一百位客人》、《小石佛》等書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郝廣才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8840" y="456840"/>
            <a:ext cx="28954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繪者介紹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吉恩盧卡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(Gian Luca Neri)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，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1971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年生於義大利，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4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時即展現對繪畫的高度興趣與熱情。吉恩盧卡從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羅倫斯藝術學院畢業後，獲取獎學金，赴西班牙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蘭納達藝術大學進修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除了繪畫，他亦擅長雕塑、攝影和現代戲劇，以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術創作表現他豐富的想像力。作品曾入選波隆那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際兒童書插畫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676520" y="5105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當巨人眼睛一張開，羅蘭便把早餐送到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的房間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6096240" cy="4022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676520" y="5105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每天，除了做飯，羅蘭就到處洗洗擦擦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她讓任何一道射進屋裏的陽光，都照不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一點灰塵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6477120" cy="43434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981080" y="4800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巨人不是看書，就是寫東西，不是畫畫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就是在想事情。他有時好像忘記了，房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裏還有羅蘭這個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5943600" cy="4133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33360" y="68544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除非羅蘭打破了巨人心愛的寶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6248160" cy="4381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05:23:02Z</dcterms:created>
  <dc:creator>user</dc:creator>
  <dc:description/>
  <dc:language>en-US</dc:language>
  <cp:lastModifiedBy>USER</cp:lastModifiedBy>
  <dcterms:modified xsi:type="dcterms:W3CDTF">2005-08-17T06:57:50Z</dcterms:modified>
  <cp:revision>33</cp:revision>
  <dc:subject/>
  <dc:title>美和二技夜二甲  學生：陳麗佩  學號：T1915117（17）</dc:title>
</cp:coreProperties>
</file>