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223-A395-4C74-A407-64B0E1EC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C2F-4089-4DCB-A100-A919C1DA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EDD-7272-40F0-994D-E2CFEBFD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7DC-0112-4FCA-A595-0BCFD9E6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8C0-23B2-48FC-B586-4FB06CDA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7AD-FC20-44D3-8378-3BE47266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C5D-0094-4831-B992-463892A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667-9FD8-4AE6-AC2F-24993805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96E-96F5-4C2B-85E7-B9DF6F7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A72-DC9C-4A50-BFEB-51178DBF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406-DA1A-4C0A-9A19-A13F772D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912-15BB-4499-B1CC-24EB778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B440-2039-49D8-B90E-B740D5EE582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7621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06:09:07Z</dcterms:created>
  <dc:creator>wang</dc:creator>
  <dc:description/>
  <dc:language>en-US</dc:language>
  <cp:lastModifiedBy>USER</cp:lastModifiedBy>
  <dcterms:modified xsi:type="dcterms:W3CDTF">2005-08-17T06:58:33Z</dcterms:modified>
  <cp:revision>17</cp:revision>
  <dc:subject/>
  <dc:title>無投影片標題</dc:title>
</cp:coreProperties>
</file>