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C46-8902-4E4A-B0F4-4D68994A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627-1131-4997-977F-F90802DC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5E1-C079-4E1E-AA69-79EA0128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0BB-C1D3-4296-BD72-B2845563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C7C5-13B2-403F-A25C-FA95AFF6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EDFF-AE2E-47BA-8C5F-A20EFF0B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5E13-33EF-4C79-917E-D659FD81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6594-E5E6-4DA5-AD4F-B7AC5B33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D191-47F9-452C-9172-7F8E4600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05A7-4CDF-4CF8-8989-025E07C6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1B3D-2D48-41F9-B676-1D1466D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01F-C864-42CC-9C31-11B3EE30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520F-EAAB-4697-832B-F514AF50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7BCD-56AC-4E93-8CE2-BFBE8CA6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6C2E-FB35-4A2C-9CA5-EEED387D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1CD8-590B-4509-B1DB-5DB7040F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F835-B6E6-4F60-BEAD-2B86A134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56B-1238-428C-BAB8-C6A8F65A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7EB-EF06-4A96-BA29-9162C81A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C28-F083-4F6A-84D0-CA5FEDC3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440-AF78-4A1B-9B7F-C5E2F263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CFF-EFBE-4B5B-8548-CFAFD050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CF5-3A7D-45F8-92F3-2A17DACF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056-159F-4C40-943D-C2392A05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31EF-F55E-458D-A4E6-4B4D323D56BC}" type="slidenum"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C596-7218-4E5B-8A67-F3A25D6D3A53}" type="slidenum"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cc"/>
                </a:solidFill>
                <a:latin typeface="Times New Roman"/>
                <a:ea typeface="華康隸書體W3(P)"/>
              </a:rPr>
              <a:t>第一名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畢業典禮上，校長宣布全年級第一名的同學上台領獎，可是連續叫了好幾聲之後，那位學生才慢慢的走上台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後來，老師問那位學生說：「怎麼了﹖是不是生病了﹖還是剛才沒聽清楚﹖」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學生答：「不是的，我是怕其他同學沒聽清楚。」  </a:t>
            </a:r>
            <a:br>
              <a:rPr sz="3200"/>
            </a:b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ccff"/>
                </a:solidFill>
                <a:latin typeface="華康超圓體"/>
                <a:ea typeface="華康超圓體"/>
              </a:rPr>
              <a:t>很奇怪，喜歡倚老賣老的人，特別容易栽跟斗。權威往往只是一個經不起考驗的空殼子，尤其在現今這個多元開放的時代。   </a:t>
            </a:r>
            <a:br>
              <a:rPr sz="3200"/>
            </a:br>
            <a:r>
              <a:rPr b="0" lang="zh-TW" sz="3200" spc="-1" strike="noStrike">
                <a:solidFill>
                  <a:srgbClr val="ccccff"/>
                </a:solidFill>
                <a:latin typeface="華康超圓體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cc"/>
                </a:solidFill>
                <a:latin typeface="Times New Roman"/>
                <a:ea typeface="華康楷書體W5(P)"/>
              </a:rPr>
              <a:t>不必緊張</a:t>
            </a:r>
            <a:r>
              <a:rPr b="0" lang="zh-TW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小明洗澡時不小心吞下一小塊肥皂，他的媽媽慌慌張張地打電話向家庭醫生求助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醫生說：「我現在還有幾個病人在，可能要半小時後才能趕過去。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小明媽媽說：「在你來之前，我該做甚麼？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醫生說：「給小明喝一杯白開水，然後用力跳一跳，你就可以讓小明用嘴巴吹泡泡消磨時間了。」 </a:t>
            </a:r>
            <a:br>
              <a:rPr sz="2800"/>
            </a:b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華康超圓體"/>
                <a:ea typeface="華康超圓體"/>
              </a:rPr>
              <a:t>Take it easy!</a:t>
            </a:r>
            <a:r>
              <a:rPr b="0" lang="zh-TW" sz="3200" spc="-1" strike="noStrike">
                <a:solidFill>
                  <a:srgbClr val="ccccff"/>
                </a:solidFill>
                <a:latin typeface="華康超圓體"/>
                <a:ea typeface="華康超圓體"/>
              </a:rPr>
              <a:t>放輕鬆些，生活何必太緊張？事情既然已經發生了，何不坦然自在的面對。擔心不如寬心，窮緊張不如窮開心。  </a:t>
            </a:r>
            <a:br>
              <a:rPr sz="3200"/>
            </a:br>
            <a:r>
              <a:rPr b="0" lang="zh-TW" sz="3200" spc="-1" strike="noStrike">
                <a:solidFill>
                  <a:srgbClr val="ccccff"/>
                </a:solidFill>
                <a:latin typeface="華康超圓體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cc"/>
                </a:solidFill>
                <a:latin typeface="Times New Roman"/>
                <a:ea typeface="華康楷書體W5(P)"/>
              </a:rPr>
              <a:t>鑰匙</a:t>
            </a:r>
            <a:r>
              <a:rPr b="0" lang="zh-TW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一把堅實的大鎖掛在大門上，一根鐵桿費了九牛二虎之力，還是無法將它撬開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鑰匙來了，他瘦小的身子鑽進鎖孔，只輕輕一轉，那大鎖就「啪」地一聲打開了。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鐵桿奇怪地問：「為什麼我費了那麼大力氣也打不開，而你卻輕而易舉地就把它打開了呢？」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鑰匙說：「因為我最了解他的心。」 </a:t>
            </a:r>
            <a:br>
              <a:rPr sz="3200"/>
            </a:b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ccff"/>
                </a:solidFill>
                <a:latin typeface="華康超圓體"/>
                <a:ea typeface="華康超圓體"/>
              </a:rPr>
              <a:t>每個人的心，都像上了鎖的大門，任你再粗的鐵棒也撬不開。  唯有關懷，才能把自己變成一隻細膩的鑰匙，進入別人的心中，了解別人。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如果您收到別人給你這封信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也記得要回寄給您的好朋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唯有穿鞋的人，才知道鞋的哪一處擠腳（赫伯特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ccff"/>
                </a:solidFill>
                <a:latin typeface="Times New Roman"/>
                <a:ea typeface="華康超圓體"/>
              </a:rPr>
              <a:t>名與利是多少人的捆綁、多少人的心結？我們被教育要爭氣、要出頭，但是爭氣出頭的，不過是少數人，沉默的大眾畢竟還是多數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ccff"/>
                </a:solidFill>
                <a:latin typeface="Times New Roman"/>
                <a:ea typeface="華康超圓體"/>
              </a:rPr>
              <a:t>想一想，有那麼多人都和你我一樣，不也是很興奮的一件事嗎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cc"/>
                </a:solidFill>
                <a:latin typeface="Times New Roman"/>
                <a:ea typeface="華康魏碑體"/>
              </a:rPr>
              <a:t>理由充份</a:t>
            </a:r>
            <a:r>
              <a:rPr b="0" lang="zh-TW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一輛載滿乘客的公共汽車沿著下坡路快速前進著，有一個人在後面緊緊地追趕著這輛車子。 </a:t>
            </a:r>
            <a:br>
              <a:rPr sz="3200"/>
            </a:b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一個乘客從車窗中伸出頭來對追車子的人說：「老兄！算啦，你追不上的！」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「我必須追上它，」 這人氣喘吁吁地說：「我是這輛車的司機！」 </a:t>
            </a:r>
            <a:br>
              <a:rPr sz="3200"/>
            </a:b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ccff"/>
                </a:solidFill>
                <a:latin typeface="Times New Roman"/>
                <a:ea typeface="華康超圓體"/>
              </a:rPr>
              <a:t>有些人必須非常認真努力，因為不這樣的話，後果就十分悲慘了！然而也正因為必須全力以赴，潛在的本能和不為人知的特質終將充份展現出來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cc"/>
                </a:solidFill>
                <a:latin typeface="Times New Roman"/>
                <a:ea typeface="華康楷書體W5(P)"/>
              </a:rPr>
              <a:t>原來如此</a:t>
            </a:r>
            <a:r>
              <a:rPr b="0" lang="zh-TW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甲：「新搬來的鄰居好可惡，昨天晚上三更半夜、夜深人靜之時，竟然跑來猛按我家的門鈴。」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乙：「的確可惡！你有沒有馬上報警？」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甲：「沒有。我當他們是瘋子，繼續吹我的小喇叭。」 </a:t>
            </a:r>
            <a:br>
              <a:rPr sz="3200"/>
            </a:b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ccff"/>
                </a:solidFill>
                <a:latin typeface="華康超圓體"/>
                <a:ea typeface="華康超圓體"/>
              </a:rPr>
              <a:t>事出必有因，如果能先看到自己的不是，答案就會不一樣了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ccff"/>
                </a:solidFill>
                <a:latin typeface="華康超圓體"/>
                <a:ea typeface="華康超圓體"/>
              </a:rPr>
              <a:t>在你面對衝突和爭執時，先想一想是否心中有虧，或許很快就能釋懷了。 </a:t>
            </a:r>
            <a:br>
              <a:rPr sz="3200"/>
            </a:br>
            <a:r>
              <a:rPr b="0" lang="zh-TW" sz="3200" spc="-1" strike="noStrike">
                <a:solidFill>
                  <a:srgbClr val="ccccff"/>
                </a:solidFill>
                <a:latin typeface="華康超圓體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cc"/>
                </a:solidFill>
                <a:latin typeface="Times New Roman"/>
                <a:ea typeface="華康楷書體W5(P)"/>
              </a:rPr>
              <a:t>誤會</a:t>
            </a:r>
            <a:r>
              <a:rPr b="0" lang="zh-TW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某日，張三在山間小路開車，正當他悠哉地欣賞美麗風景時，突然迎面開來一輛貨車，而且滿口黑牙的司機還搖下窗戶對他大罵一聲「豬」。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張三越想越納悶，也越想越氣，於是他也搖下車窗回頭大罵：「你才是豬！」 才剛罵完，他便迎頭撞上一群過馬路的豬。 </a:t>
            </a:r>
            <a:br>
              <a:rPr sz="3200"/>
            </a:b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ccff"/>
                </a:solidFill>
                <a:latin typeface="華康超圓體"/>
                <a:ea typeface="華康超圓體"/>
              </a:rPr>
              <a:t>不要錯誤的詮釋別人的好意，那只會讓自己吃虧，並且使別人受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ccff"/>
                </a:solidFill>
                <a:latin typeface="華康超圓體"/>
                <a:ea typeface="華康超圓體"/>
              </a:rPr>
              <a:t>在不明所以之前，先學會按捺情緒，耐心觀察，以免事後生發悔意。   </a:t>
            </a:r>
            <a:br>
              <a:rPr sz="3200"/>
            </a:br>
            <a:r>
              <a:rPr b="0" lang="zh-TW" sz="3200" spc="-1" strike="noStrike">
                <a:solidFill>
                  <a:srgbClr val="ccccff"/>
                </a:solidFill>
                <a:latin typeface="華康超圓體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cc"/>
                </a:solidFill>
                <a:latin typeface="Times New Roman"/>
                <a:ea typeface="華康楷書體W5(P)"/>
              </a:rPr>
              <a:t>後生可畏</a:t>
            </a:r>
            <a:r>
              <a:rPr b="0" lang="zh-TW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小男孩問爸爸：「是不是做父親的總比做兒子的知道得多？」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爸爸回答：「當然啦！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小男孩問：「電燈是誰發明的？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爸爸：「是愛迪生。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小男孩又問：「那愛迪生的爸爸怎麼沒有發明電燈？」 </a:t>
            </a:r>
            <a:br>
              <a:rPr sz="2800"/>
            </a:b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5:38:31Z</dcterms:created>
  <dc:creator>CHEN MENG YUI</dc:creator>
  <dc:description/>
  <dc:language>en-US</dc:language>
  <cp:lastModifiedBy>USER</cp:lastModifiedBy>
  <dcterms:modified xsi:type="dcterms:W3CDTF">2005-08-17T06:57:13Z</dcterms:modified>
  <cp:revision>2</cp:revision>
  <dc:subject/>
  <dc:title>第一名 </dc:title>
</cp:coreProperties>
</file>