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374-FC80-4A28-8D93-2E575466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D26-5E9C-4C92-884A-B4DDB98F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6C3-0C3C-4E36-A6F2-A5B45125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77C-EF11-4BBE-8E28-98C2F5A9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356-E3B1-49F6-9D9A-33A4F8D7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A34-A442-46D0-8973-C8B05B2E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779-DCD8-42C2-BFC4-406BA93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B15-E1DA-49D4-8B85-F578F956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07E-365A-470D-8E53-E58B416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332-4EC4-4004-99DB-26EE571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49E-1C32-433D-84D1-507933B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907-6799-4945-B248-E5B713D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C3A-149B-48C4-882F-E45D62DAFB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看人家怎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麼設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1581120"/>
            <a:ext cx="55501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762800" cy="6076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4365720"/>
            <a:ext cx="37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衣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架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另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衣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81560" y="367668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422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這兩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小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是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762440" cy="3200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5229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過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能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時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4762440" cy="574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986600" y="198900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可能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600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81560" y="3390840"/>
            <a:ext cx="4762440" cy="346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407664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玩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毛巾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架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性化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湯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600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81560" y="3860640"/>
            <a:ext cx="4762440" cy="2552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4762440" cy="3981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81480" y="1268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做成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這樣還怕不好賣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60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03640" y="112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有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掛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76244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67280" y="3933720"/>
            <a:ext cx="4762440" cy="266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35640" y="765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那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762440" cy="280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2717640"/>
            <a:ext cx="4140360" cy="41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386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想吃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鑰匙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人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得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蠟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猜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能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0600" y="1695600"/>
            <a:ext cx="476280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60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3068640"/>
            <a:ext cx="44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鑰匙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這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致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2421000"/>
            <a:ext cx="3837240" cy="418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4600" y="3429000"/>
            <a:ext cx="54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4762440" cy="3381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42920" y="522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占位子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猛吧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605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2600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292720" y="3933720"/>
            <a:ext cx="367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麼韓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這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看人家精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設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知道了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真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值得我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們學習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86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81560" y="335772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4840" y="3276720"/>
            <a:ext cx="91188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想到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檯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28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67280" y="321300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458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錶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收音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機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十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467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2946240"/>
            <a:ext cx="4356000" cy="3911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64000" y="4724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時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鉛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762440" cy="26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762440" cy="26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50240" y="1700280"/>
            <a:ext cx="546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是存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錢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2705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981000"/>
            <a:ext cx="32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放胡椒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4762440" cy="288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80000" y="3933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竟然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擁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64000" y="1125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漂亮的壁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97360" y="2878200"/>
            <a:ext cx="5246640" cy="3979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458136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手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電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時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2421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3645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猜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這兩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玩意是做什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3:57:01Z</dcterms:created>
  <dc:creator>albert</dc:creator>
  <dc:description/>
  <dc:language>en-US</dc:language>
  <cp:lastModifiedBy>USER</cp:lastModifiedBy>
  <dcterms:modified xsi:type="dcterms:W3CDTF">2005-08-12T14:11:37Z</dcterms:modified>
  <cp:revision>5</cp:revision>
  <dc:subject/>
  <dc:title>看看人家怎么设计的</dc:title>
</cp:coreProperties>
</file>