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1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5.jpeg" ContentType="image/jpeg"/>
  <Override PartName="/ppt/media/image1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5A0C-B403-40FB-9C7E-8AC941BED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063E-B28E-4427-8191-A17CBE86C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D685-39B7-47C8-90EA-A7A1A3FF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34339-7585-4766-9B8D-6DC19CA29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4B50-51CE-4440-8B01-82A18EEF6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3E01-D36B-4CC2-B163-0D2648B1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B5D4-5F8B-4733-874D-3BA6AADAD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2EC4F-8BC3-491D-80F2-C01986778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A127-0FD2-4244-A7E3-EC61612D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7542-F6A4-403C-BC51-53C05BB9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6B67-8BE5-4D88-9368-EB8FB6FA8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E7A1-4B27-4628-B76C-F018451F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FDB2-94C8-48A2-86FD-A28DED02F83B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b049"/>
            </a:gs>
            <a:gs pos="100000">
              <a:srgbClr val="fc9fcb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79640" y="0"/>
            <a:ext cx="534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98560" y="0"/>
            <a:ext cx="7345440" cy="5670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9280" y="4074480"/>
            <a:ext cx="378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標楷體"/>
                <a:ea typeface="標楷體"/>
              </a:rPr>
              <a:t>朋友都說</a:t>
            </a:r>
            <a:br>
              <a:rPr sz="2400"/>
            </a:br>
            <a:r>
              <a:rPr b="1" lang="zh-TW" sz="2400" spc="-1" strike="noStrike">
                <a:solidFill>
                  <a:srgbClr val="0033cc"/>
                </a:solidFill>
                <a:latin typeface="標楷體"/>
                <a:ea typeface="標楷體"/>
              </a:rPr>
              <a:t>我是個容易</a:t>
            </a:r>
            <a:r>
              <a:rPr b="1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入戲的人，</a:t>
            </a:r>
            <a:br>
              <a:rPr sz="2400"/>
            </a:br>
            <a:r>
              <a:rPr b="1" lang="zh-TW" sz="2400" spc="-1" strike="noStrike">
                <a:solidFill>
                  <a:srgbClr val="0033cc"/>
                </a:solidFill>
                <a:latin typeface="標楷體"/>
                <a:ea typeface="標楷體"/>
              </a:rPr>
              <a:t>玩電動時，</a:t>
            </a:r>
            <a:br>
              <a:rPr sz="2400"/>
            </a:br>
            <a:r>
              <a:rPr b="1" lang="zh-TW" sz="2400" spc="-1" strike="noStrike">
                <a:solidFill>
                  <a:srgbClr val="0033cc"/>
                </a:solidFill>
                <a:latin typeface="標楷體"/>
                <a:ea typeface="標楷體"/>
              </a:rPr>
              <a:t>我常又笑又</a:t>
            </a:r>
            <a:r>
              <a:rPr b="1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跳，尖叫連連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627280" y="571392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真的，有時我會興奮到，都已經回家洗澡了，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還在開心地大聲唱歌，宛如活潑好動的青少年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ff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846600" y="0"/>
            <a:ext cx="52974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0560" y="1327320"/>
            <a:ext cx="51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3b551b"/>
                </a:solidFill>
                <a:latin typeface="Arial"/>
                <a:ea typeface="標楷體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1042920"/>
            <a:ext cx="37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而跟陌生人應酬的場合，我卻又會變得很彆扭，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不知自己什麼時候該笑、什麼時候該皺眉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4368600"/>
            <a:ext cx="36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33cc"/>
                </a:solidFill>
                <a:latin typeface="Arial"/>
                <a:ea typeface="標楷體"/>
              </a:rPr>
              <a:t>這時，我又變成一個自閉害羞的兒童，</a:t>
            </a:r>
            <a:br>
              <a:rPr sz="2400"/>
            </a:br>
            <a:r>
              <a:rPr b="1" lang="zh-TW" sz="2400" spc="-1" strike="noStrike">
                <a:solidFill>
                  <a:srgbClr val="0033cc"/>
                </a:solidFill>
                <a:latin typeface="Arial"/>
                <a:ea typeface="標楷體"/>
              </a:rPr>
              <a:t>和四周人的世界隔了一層看不見的紗門。</a:t>
            </a:r>
            <a:r>
              <a:rPr b="1" lang="zh-TW" sz="18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b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3890880" y="198360"/>
            <a:ext cx="5023080" cy="6402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79280" y="1197000"/>
            <a:ext cx="410544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996633"/>
                </a:solidFill>
                <a:latin typeface="Arial"/>
                <a:ea typeface="標楷體"/>
              </a:rPr>
              <a:t>可是，在跟熟人相處時，</a:t>
            </a:r>
            <a:br>
              <a:rPr sz="2600"/>
            </a:br>
            <a:r>
              <a:rPr b="1" lang="zh-TW" sz="2600" spc="-1" strike="noStrike">
                <a:solidFill>
                  <a:srgbClr val="996633"/>
                </a:solidFill>
                <a:latin typeface="Arial"/>
                <a:ea typeface="標楷體"/>
              </a:rPr>
              <a:t>我卻又非常地健談豪爽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996633"/>
                </a:solidFill>
                <a:latin typeface="Arial"/>
                <a:ea typeface="標楷體"/>
              </a:rPr>
              <a:t>滔滔不絕聲如洪鐘。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4146840"/>
            <a:ext cx="367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這時的我，喧鬧得宛如是在公車頂上放肆的鼓手。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ea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35080" y="1136520"/>
            <a:ext cx="7956360" cy="5437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621760" y="260280"/>
            <a:ext cx="266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5250"/>
                </a:solidFill>
                <a:latin typeface="Arial"/>
                <a:ea typeface="標楷體"/>
              </a:rPr>
              <a:t>尤其，在好友們面前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5250"/>
                </a:solidFill>
                <a:latin typeface="Arial"/>
                <a:ea typeface="標楷體"/>
              </a:rPr>
              <a:t>我常是耐心傾聽的臉孔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5250"/>
                </a:solidFill>
                <a:latin typeface="Arial"/>
                <a:ea typeface="標楷體"/>
              </a:rPr>
              <a:t>彷彿心理醫生</a:t>
            </a:r>
            <a:r>
              <a:rPr b="1" lang="zh-TW" sz="1800" spc="-1" strike="noStrike">
                <a:solidFill>
                  <a:srgbClr val="005250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5250"/>
                </a:solidFill>
                <a:latin typeface="Arial"/>
                <a:ea typeface="標楷體"/>
              </a:rPr>
              <a:t>永遠在同理與治療大家的心情</a:t>
            </a:r>
            <a:r>
              <a:rPr b="1" lang="zh-TW" sz="1800" spc="-1" strike="noStrike">
                <a:solidFill>
                  <a:srgbClr val="00525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569080" cy="6405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68360" y="639000"/>
            <a:ext cx="4824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ffffff"/>
                </a:solidFill>
                <a:latin typeface="標楷體"/>
                <a:ea typeface="標楷體"/>
              </a:rPr>
              <a:t>那就像是</a:t>
            </a:r>
            <a:r>
              <a:rPr b="1" lang="zh-TW" sz="2600" spc="-1" strike="noStrike">
                <a:solidFill>
                  <a:srgbClr val="ffffff"/>
                </a:solidFill>
                <a:latin typeface="標楷體"/>
                <a:ea typeface="標楷體"/>
              </a:rPr>
              <a:t>24</a:t>
            </a:r>
            <a:r>
              <a:rPr b="1" lang="zh-TW" sz="2600" spc="-1" strike="noStrike">
                <a:solidFill>
                  <a:srgbClr val="ffffff"/>
                </a:solidFill>
                <a:latin typeface="標楷體"/>
                <a:ea typeface="標楷體"/>
              </a:rPr>
              <a:t>小時服務的生命線，</a:t>
            </a:r>
            <a:br>
              <a:rPr sz="2600"/>
            </a:br>
            <a:r>
              <a:rPr b="1" lang="zh-TW" sz="2600" spc="-1" strike="noStrike">
                <a:solidFill>
                  <a:srgbClr val="ffffff"/>
                </a:solidFill>
                <a:latin typeface="標楷體"/>
                <a:ea typeface="標楷體"/>
              </a:rPr>
              <a:t>一直都充滿愛心地面對朋友的心事與問題。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782720" y="322200"/>
            <a:ext cx="604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4fea6"/>
                </a:solidFill>
                <a:latin typeface="Arial"/>
                <a:ea typeface="標楷體"/>
              </a:rPr>
              <a:t>但</a:t>
            </a:r>
            <a:r>
              <a:rPr b="1" lang="zh-TW" sz="1800" spc="-1" strike="noStrike">
                <a:solidFill>
                  <a:srgbClr val="f4fea6"/>
                </a:solidFill>
                <a:latin typeface="Arial"/>
              </a:rPr>
              <a:t>，</a:t>
            </a:r>
            <a:r>
              <a:rPr b="1" lang="zh-TW" sz="2400" spc="-1" strike="noStrike">
                <a:solidFill>
                  <a:srgbClr val="f4fea6"/>
                </a:solidFill>
                <a:latin typeface="Arial"/>
                <a:ea typeface="標楷體"/>
              </a:rPr>
              <a:t>等到聚會結束、回家途中，我卻會為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4fea6"/>
                </a:solidFill>
                <a:latin typeface="Arial"/>
                <a:ea typeface="標楷體"/>
              </a:rPr>
              <a:t>自己在聚餐時說錯的一句話而自責不已。</a:t>
            </a:r>
            <a:r>
              <a:rPr b="0" lang="zh-TW" sz="1800" spc="-1" strike="noStrike">
                <a:solidFill>
                  <a:srgbClr val="f4fea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77800" y="1398600"/>
            <a:ext cx="7931160" cy="5459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210840" y="5397840"/>
            <a:ext cx="365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99"/>
                </a:solidFill>
                <a:latin typeface="Arial"/>
                <a:ea typeface="標楷體"/>
              </a:rPr>
              <a:t>我會不停地想：我怎麼會這麼愚蠢？</a:t>
            </a:r>
            <a:br>
              <a:rPr sz="2400"/>
            </a:br>
            <a:r>
              <a:rPr b="1" lang="zh-TW" sz="2400" spc="-1" strike="noStrike">
                <a:solidFill>
                  <a:srgbClr val="ffff99"/>
                </a:solidFill>
                <a:latin typeface="Arial"/>
                <a:ea typeface="標楷體"/>
              </a:rPr>
              <a:t>我怎麼可以說那種話？我怎麼會這麼可笑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1ff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395360" y="549360"/>
            <a:ext cx="7748640" cy="54324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4000" y="3933720"/>
            <a:ext cx="464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我總覺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得，身體裡有另一個我，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時時會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跳出來批評自己，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而真正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的我則被囚禁在監牢裡，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對那個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老是評價我的傢伙無能為</a:t>
            </a: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力。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979200"/>
            <a:ext cx="592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我一直試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著要停止批判自己、鞭笞自己，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可是，我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的腦子根本不聽我使喚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8604360" cy="6453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5950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435640" y="1271520"/>
            <a:ext cx="30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於是，我會沮喪地躲在家裡哭泣，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心裡難受得想要拿刀子刺自己。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292720" y="4546440"/>
            <a:ext cx="38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有時甚至會痛苦得抓狂，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站在陽台喃喃自語，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彷彿一個精神不正常的人。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07960" y="635040"/>
            <a:ext cx="8128080" cy="55879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228400" y="71820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情緒跌落到谷底時，</a:t>
            </a:r>
            <a:br>
              <a:rPr sz="2400"/>
            </a:br>
            <a:r>
              <a:rPr b="1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我根本不知道要如何才能熬到明天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4360" y="483372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ff"/>
                </a:solidFill>
                <a:latin typeface="標楷體"/>
                <a:ea typeface="標楷體"/>
              </a:rPr>
              <a:t>那種感覺，</a:t>
            </a:r>
            <a:br>
              <a:rPr sz="2400"/>
            </a:br>
            <a:r>
              <a:rPr b="1" lang="zh-TW" sz="2400" spc="-1" strike="noStrike">
                <a:solidFill>
                  <a:srgbClr val="ffccff"/>
                </a:solidFill>
                <a:latin typeface="標楷體"/>
                <a:ea typeface="標楷體"/>
              </a:rPr>
              <a:t>就像是個無家可歸、沒有未來的遊民，掛著一張抑鬱絕望的臉孔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68144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788000" y="1611720"/>
            <a:ext cx="4356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即使，如今我已找到了終生伴侶，也走入了婚姻，</a:t>
            </a:r>
            <a:br>
              <a:rPr sz="2600"/>
            </a:br>
            <a:r>
              <a:rPr b="1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我仍無法抵抗憂鬱低潮的大浪來襲。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59280" y="4491000"/>
            <a:ext cx="40338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要如何才能讓先生明白，</a:t>
            </a:r>
            <a:br>
              <a:rPr sz="2600"/>
            </a:br>
            <a:r>
              <a:rPr b="1" lang="zh-TW" sz="2600" spc="-1" strike="noStrike">
                <a:solidFill>
                  <a:srgbClr val="000000"/>
                </a:solidFill>
                <a:latin typeface="Arial"/>
                <a:ea typeface="標楷體"/>
              </a:rPr>
              <a:t>為何我會為了一件小事而想東想西，討厭自己？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7488000" cy="51102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835280" y="187200"/>
            <a:ext cx="66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在國外唸書時，我是那麼地獨立自主，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可以一個人去看電影，一個人去旅行，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一個人去逛街，一個人去看病。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46560" y="5155920"/>
            <a:ext cx="529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cc99"/>
                </a:solidFill>
                <a:latin typeface="Arial"/>
                <a:ea typeface="標楷體"/>
              </a:rPr>
              <a:t>可是一回到台灣，回到先生身邊，</a:t>
            </a:r>
            <a:br>
              <a:rPr sz="2400"/>
            </a:br>
            <a:r>
              <a:rPr b="1" lang="zh-TW" sz="2400" spc="-1" strike="noStrike">
                <a:solidFill>
                  <a:srgbClr val="ffcc99"/>
                </a:solidFill>
                <a:latin typeface="Arial"/>
                <a:ea typeface="標楷體"/>
              </a:rPr>
              <a:t>我卻彷彿變了一個人，做什麼都吵著要他陪，</a:t>
            </a:r>
            <a:br>
              <a:rPr sz="2400"/>
            </a:br>
            <a:r>
              <a:rPr b="1" lang="zh-TW" sz="2400" spc="-1" strike="noStrike">
                <a:solidFill>
                  <a:srgbClr val="ffcc99"/>
                </a:solidFill>
                <a:latin typeface="Arial"/>
                <a:ea typeface="標楷體"/>
              </a:rPr>
              <a:t>好像我是個行動不便、難以獨自出門的人似的。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7885080" cy="5379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14600" y="78120"/>
            <a:ext cx="292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66"/>
                </a:solidFill>
                <a:latin typeface="Arial"/>
                <a:ea typeface="標楷體"/>
              </a:rPr>
              <a:t>尤其在生病時，我便特別地軟弱，</a:t>
            </a:r>
            <a:br>
              <a:rPr sz="2400"/>
            </a:br>
            <a:r>
              <a:rPr b="1" lang="zh-TW" sz="2400" spc="-1" strike="noStrike">
                <a:solidFill>
                  <a:srgbClr val="ffff66"/>
                </a:solidFill>
                <a:latin typeface="Arial"/>
                <a:ea typeface="標楷體"/>
              </a:rPr>
              <a:t>一定要先生陪伴我，</a:t>
            </a:r>
            <a:br>
              <a:rPr sz="2400"/>
            </a:br>
            <a:r>
              <a:rPr b="1" lang="zh-TW" sz="2400" spc="-1" strike="noStrike">
                <a:solidFill>
                  <a:srgbClr val="ffff66"/>
                </a:solidFill>
                <a:latin typeface="Arial"/>
                <a:ea typeface="標楷體"/>
              </a:rPr>
              <a:t>即使他正在外地出差，也吵著要他即刻趕回來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59120" y="5713920"/>
            <a:ext cx="292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99ccff"/>
                </a:solidFill>
                <a:latin typeface="Arial"/>
                <a:ea typeface="標楷體"/>
              </a:rPr>
              <a:t>這時，我根本就是個黏人的小孩，</a:t>
            </a:r>
            <a:br>
              <a:rPr sz="2400"/>
            </a:br>
            <a:r>
              <a:rPr b="1" lang="zh-TW" sz="2400" spc="-1" strike="noStrike">
                <a:solidFill>
                  <a:srgbClr val="99ccff"/>
                </a:solidFill>
                <a:latin typeface="Arial"/>
                <a:ea typeface="標楷體"/>
              </a:rPr>
              <a:t>一直殷殷等待著家人的歸來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258920" y="1197000"/>
            <a:ext cx="6769080" cy="5192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359800" y="212760"/>
            <a:ext cx="3106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然而，跟先生吵架時，</a:t>
            </a:r>
            <a:br>
              <a:rPr sz="2400"/>
            </a:br>
            <a:r>
              <a:rPr b="1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我卻又會暴跳如雷，大聲咆哮。</a:t>
            </a:r>
            <a:br>
              <a:rPr sz="2400"/>
            </a:br>
            <a:r>
              <a:rPr b="1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那種情形，就像有幾十個暴怒的我，</a:t>
            </a:r>
            <a:br>
              <a:rPr sz="2400"/>
            </a:br>
            <a:r>
              <a:rPr b="1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充滿恨意地從地獄爬出，不把對方摧毀決不休止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47640" y="639972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這時的我，就長了幾十張青綠恐怖的臉孔。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82680" y="1257480"/>
            <a:ext cx="6578640" cy="4343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187280" y="65736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而在跟先生冷戰時，我卻又可以整天不說一句話，冰冷漠然，對他視若無睹。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332000" y="5569200"/>
            <a:ext cx="648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這時，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我便是一張沉默冷淡、假裝入睡的臉孔。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187280" y="1628640"/>
            <a:ext cx="7021800" cy="4640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050920" y="402840"/>
            <a:ext cx="568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而當討厭的長輩打電話來勸架時，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我一看見來電顯示，就馬上變成隱形人，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任由電話響個不停，我也不願去接聽。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d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862280" y="1273320"/>
            <a:ext cx="7284960" cy="558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08040" y="260280"/>
            <a:ext cx="482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種種的挫折與失意，都會讓我沉溺在幻想裡：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如果我有個不一樣的童年、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不一樣的家庭、不一樣的際遇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...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如果我正坐在非洲的曠野，人生充滿精采的傳奇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...</a:t>
            </a:r>
            <a:r>
              <a:rPr b="0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95520" y="5443920"/>
            <a:ext cx="426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這時的我，</a:t>
            </a:r>
            <a:r>
              <a:rPr b="1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就是一張沉迷夢幻，不切實際的臉孔。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bf00"/>
            </a:gs>
            <a:gs pos="100000">
              <a:srgbClr val="0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826920" y="928800"/>
            <a:ext cx="7417080" cy="50781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83080" y="285840"/>
            <a:ext cx="3472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然而，一到出外洽公、談判協商的時候，</a:t>
            </a:r>
            <a:br>
              <a:rPr sz="2400"/>
            </a:b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我卻又會變得非常實際，</a:t>
            </a:r>
            <a:br>
              <a:rPr sz="2400"/>
            </a:b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凡事小心謹慎，算盤打得很精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443480" y="551520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於是，同事眼中的我，</a:t>
            </a:r>
            <a:br>
              <a:rPr sz="2400"/>
            </a:br>
            <a:r>
              <a:rPr b="1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便是一張眉頭深鎖、讓人很有壓力的嚴肅臉孔。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9272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651640" y="1102680"/>
            <a:ext cx="326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而當老闆在會議桌前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滔滔不絕地誇耀他的當年勇時，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即使我心裡十分不耐，</a:t>
            </a:r>
            <a:br>
              <a:rPr sz="2400"/>
            </a:b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仍賣力演出專心聽講的表情。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05480" y="4644000"/>
            <a:ext cx="363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333399"/>
                </a:solidFill>
                <a:latin typeface="Arial"/>
                <a:ea typeface="標楷體"/>
              </a:rPr>
              <a:t>這時，</a:t>
            </a:r>
            <a:br>
              <a:rPr sz="2400"/>
            </a:br>
            <a:r>
              <a:rPr b="1" lang="zh-TW" sz="2400" spc="-1" strike="noStrike">
                <a:solidFill>
                  <a:srgbClr val="333399"/>
                </a:solidFill>
                <a:latin typeface="Arial"/>
                <a:ea typeface="標楷體"/>
              </a:rPr>
              <a:t>我的臉上便掛著一張表裡不一的面具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640720" cy="6408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5243040" y="428760"/>
            <a:ext cx="1826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工作壓力很大時，我會忍不住一直看電視。</a:t>
            </a:r>
            <a:br>
              <a:rPr sz="2400"/>
            </a:br>
            <a:r>
              <a:rPr b="1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明知道已經夜深了，</a:t>
            </a:r>
            <a:br>
              <a:rPr sz="2400"/>
            </a:br>
            <a:r>
              <a:rPr b="1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我卻無法控制自己，</a:t>
            </a:r>
            <a:br>
              <a:rPr sz="2400"/>
            </a:br>
            <a:r>
              <a:rPr b="1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黏在沙發上看了一部又一部的影集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03640" y="2772000"/>
            <a:ext cx="5721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這時的我，</a:t>
            </a:r>
            <a:br>
              <a:rPr sz="2400"/>
            </a:br>
            <a:r>
              <a:rPr b="1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宛如萬分疲憊、麻木茫然的中年男子，</a:t>
            </a:r>
            <a:br>
              <a:rPr sz="2400"/>
            </a:br>
            <a:r>
              <a:rPr b="1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完全不像同事眼中精明強悍、講究效率的強人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84360" y="922320"/>
            <a:ext cx="7127640" cy="5514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417760" y="690480"/>
            <a:ext cx="200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等到累得終於要睡了，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我卻又變得很神經質，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要再三檢查鬧鐘的設定，害怕第二天睡過頭。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44760" y="5443200"/>
            <a:ext cx="3838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還要一再檢查冰箱是否關好、瓦斯是否關緊，</a:t>
            </a:r>
            <a:br>
              <a:rPr sz="2400"/>
            </a:b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宛如得了強迫症的病人，</a:t>
            </a:r>
            <a:br>
              <a:rPr sz="2400"/>
            </a:b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一定要確定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100%</a:t>
            </a: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的安全，才敢入睡。</a:t>
            </a:r>
            <a:r>
              <a:rPr b="0" lang="zh-TW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755640" y="1052640"/>
            <a:ext cx="7431120" cy="4878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440360" y="25884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我常問自己， 有這麼多臉孔的我，</a:t>
            </a:r>
            <a:br>
              <a:rPr sz="2400"/>
            </a:br>
            <a:r>
              <a:rPr b="1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算不算是一個虛偽的人？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109320" y="594828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甚至我會對著鏡子想：</a:t>
            </a:r>
            <a:br>
              <a:rPr sz="2400"/>
            </a:br>
            <a:r>
              <a:rPr b="0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我是不是個很怪的人？別人會不會覺得我精神有問題？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95280" y="83916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bbe0e3"/>
                </a:solidFill>
                <a:latin typeface="標楷體"/>
                <a:ea typeface="標楷體"/>
              </a:rPr>
              <a:t>雖然我覺得，胸膛裡好像長了各式各樣的自己，</a:t>
            </a:r>
            <a:br>
              <a:rPr sz="2400"/>
            </a:br>
            <a:r>
              <a:rPr b="1" lang="zh-TW" sz="2400" spc="-1" strike="noStrike">
                <a:solidFill>
                  <a:srgbClr val="bbe0e3"/>
                </a:solidFill>
                <a:latin typeface="標楷體"/>
                <a:ea typeface="標楷體"/>
              </a:rPr>
              <a:t>掛了形形色色的臉孔，但這些臉，</a:t>
            </a:r>
            <a:br>
              <a:rPr sz="2400"/>
            </a:br>
            <a:r>
              <a:rPr b="1" lang="zh-TW" sz="2400" spc="-1" strike="noStrike">
                <a:solidFill>
                  <a:srgbClr val="bbe0e3"/>
                </a:solidFill>
                <a:latin typeface="標楷體"/>
                <a:ea typeface="標楷體"/>
              </a:rPr>
              <a:t>其實只是為了掩飾藏在我身體深處，</a:t>
            </a:r>
            <a:br>
              <a:rPr sz="2400"/>
            </a:br>
            <a:r>
              <a:rPr b="1" lang="zh-TW" sz="2400" spc="-1" strike="noStrike">
                <a:solidFill>
                  <a:srgbClr val="bbe0e3"/>
                </a:solidFill>
                <a:latin typeface="標楷體"/>
                <a:ea typeface="標楷體"/>
              </a:rPr>
              <a:t>那個若隱若現的真正的我。</a:t>
            </a:r>
            <a:r>
              <a:rPr b="1" lang="zh-TW" sz="2400" spc="-1" strike="noStrike">
                <a:solidFill>
                  <a:srgbClr val="000000"/>
                </a:solidFill>
                <a:latin typeface="標楷體"/>
                <a:ea typeface="標楷體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11280" y="907920"/>
            <a:ext cx="7954920" cy="54975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92200" y="3556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466560"/>
            <a:ext cx="706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而我從來不敢讓大家認識</a:t>
            </a:r>
            <a:br>
              <a:rPr sz="2400"/>
            </a:b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那個真正的我。</a:t>
            </a:r>
            <a:br>
              <a:rPr sz="2400"/>
            </a:b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因為我覺得，自己這麼奇怪，真的有人能接受嗎？</a:t>
            </a:r>
            <a:br>
              <a:rPr sz="2400"/>
            </a:br>
            <a:r>
              <a:rPr b="0" lang="zh-TW" sz="2400" spc="-1" strike="noStrike">
                <a:solidFill>
                  <a:srgbClr val="ffffff"/>
                </a:solidFill>
                <a:latin typeface="標楷體"/>
                <a:ea typeface="標楷體"/>
              </a:rPr>
              <a:t>有人真的能瞭解，而不會大驚小怪嗎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11280" y="1212480"/>
            <a:ext cx="390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在我心裡，自己的真面目，</a:t>
            </a:r>
            <a:br>
              <a:rPr sz="2400"/>
            </a:br>
            <a:r>
              <a:rPr b="1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其實是一張怪異至極、</a:t>
            </a:r>
            <a:br>
              <a:rPr sz="2400"/>
            </a:br>
            <a:r>
              <a:rPr b="1" lang="zh-TW" sz="2400" spc="-1" strike="noStrike">
                <a:solidFill>
                  <a:srgbClr val="ffffff"/>
                </a:solidFill>
                <a:latin typeface="Arial"/>
                <a:ea typeface="標楷體"/>
              </a:rPr>
              <a:t>跟這世界格格不入的臉孔。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3640" y="1268280"/>
            <a:ext cx="3384360" cy="437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在人群裡，我常掛著開朗的笑容，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沒有人知道我其實好討厭自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49840" y="0"/>
            <a:ext cx="529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230800" y="3257640"/>
            <a:ext cx="370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4b6600"/>
                </a:solidFill>
                <a:latin typeface="Arial"/>
                <a:ea typeface="標楷體"/>
              </a:rPr>
              <a:t>我的身體好像裝了一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4b6600"/>
                </a:solidFill>
                <a:latin typeface="Arial"/>
                <a:ea typeface="標楷體"/>
              </a:rPr>
              <a:t>隱形的水龍頭</a:t>
            </a:r>
            <a:r>
              <a:rPr b="1" lang="zh-TW" sz="1800" spc="-1" strike="noStrike">
                <a:solidFill>
                  <a:srgbClr val="4b6600"/>
                </a:solidFill>
                <a:latin typeface="Arial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4b6600"/>
                </a:solidFill>
                <a:latin typeface="Arial"/>
                <a:ea typeface="標楷體"/>
              </a:rPr>
              <a:t>把許多心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4b6600"/>
                </a:solidFill>
                <a:latin typeface="Arial"/>
                <a:ea typeface="標楷體"/>
              </a:rPr>
              <a:t>都緊緊地鎖在胸口</a:t>
            </a:r>
            <a:r>
              <a:rPr b="1" lang="zh-TW" sz="1800" spc="-1" strike="noStrike">
                <a:solidFill>
                  <a:srgbClr val="4b6600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468144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1155600"/>
            <a:ext cx="8351640" cy="57024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9280" y="3833280"/>
            <a:ext cx="860436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18900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33cc"/>
                </a:solidFill>
                <a:latin typeface="Arial"/>
                <a:ea typeface="標楷體"/>
              </a:rPr>
              <a:t>從小到大，在師長與同學面前，</a:t>
            </a:r>
            <a:br>
              <a:rPr sz="2800"/>
            </a:br>
            <a:r>
              <a:rPr b="1" lang="zh-TW" sz="2800" spc="-1" strike="noStrike">
                <a:solidFill>
                  <a:srgbClr val="0033cc"/>
                </a:solidFill>
                <a:latin typeface="Arial"/>
                <a:ea typeface="標楷體"/>
              </a:rPr>
              <a:t>我都是成熟懂事、乖巧傑出的好學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03280" y="548496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ffff"/>
                </a:solidFill>
                <a:latin typeface="Arial"/>
                <a:ea typeface="標楷體"/>
              </a:rPr>
              <a:t>但是一回到家裡，</a:t>
            </a:r>
            <a:br>
              <a:rPr sz="2800"/>
            </a:br>
            <a:r>
              <a:rPr b="1" lang="zh-TW" sz="2800" spc="-1" strike="noStrike">
                <a:solidFill>
                  <a:srgbClr val="ffffff"/>
                </a:solidFill>
                <a:latin typeface="Arial"/>
                <a:ea typeface="標楷體"/>
              </a:rPr>
              <a:t>在爸媽面前，我卻成了茶來伸手飯來張口、任性驕縱的巨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25636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64000" y="2421000"/>
            <a:ext cx="3529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考完聯考時，</a:t>
            </a:r>
            <a:br>
              <a:rPr sz="2800"/>
            </a:b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明明自己考得不錯，</a:t>
            </a:r>
            <a:br>
              <a:rPr sz="2800"/>
            </a:b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我卻還是萬分焦慮，</a:t>
            </a:r>
            <a:br>
              <a:rPr sz="2800"/>
            </a:br>
            <a:r>
              <a:rPr b="1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頻頻打電話給同學抱怨自己考得超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5445000"/>
            <a:ext cx="56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ffccff"/>
                </a:solidFill>
                <a:latin typeface="Arial"/>
                <a:ea typeface="標楷體"/>
              </a:rPr>
              <a:t>這時，</a:t>
            </a:r>
            <a:br>
              <a:rPr sz="2800"/>
            </a:br>
            <a:r>
              <a:rPr b="1" lang="zh-TW" sz="2800" spc="-1" strike="noStrike">
                <a:solidFill>
                  <a:srgbClr val="ffccff"/>
                </a:solidFill>
                <a:latin typeface="Arial"/>
                <a:ea typeface="標楷體"/>
              </a:rPr>
              <a:t>我便長了一張自卑又好勝的臉孔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568680" y="0"/>
            <a:ext cx="557532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2708280"/>
            <a:ext cx="44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然而，看見公園裡的貓咪時，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我又會變得好慈祥好和藹，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不但拿出食物來餵牠，</a:t>
            </a:r>
            <a:br>
              <a:rPr sz="2400"/>
            </a:br>
            <a:r>
              <a:rPr b="1" lang="zh-TW" sz="2400" spc="-1" strike="noStrike">
                <a:solidFill>
                  <a:srgbClr val="000000"/>
                </a:solidFill>
                <a:latin typeface="Arial"/>
                <a:ea typeface="標楷體"/>
              </a:rPr>
              <a:t>甚至還會囉哩囉唆地對牠講話。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d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07960" y="666720"/>
            <a:ext cx="8128080" cy="55245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4041000" y="188280"/>
            <a:ext cx="5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標楷體"/>
              </a:rPr>
              <a:t>於是，我又變成一張老媽媽的臉孔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0T05:50:50Z</dcterms:created>
  <dc:creator>user</dc:creator>
  <dc:description/>
  <dc:language>en-US</dc:language>
  <cp:lastModifiedBy>selena</cp:lastModifiedBy>
  <dcterms:modified xsi:type="dcterms:W3CDTF">2005-09-30T06:43:06Z</dcterms:modified>
  <cp:revision>27</cp:revision>
  <dc:subject/>
  <dc:title>投影片 1</dc:title>
</cp:coreProperties>
</file>