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camera.wav" ContentType="audio/x-wav"/>
  <Override PartName="/ppt/media/image21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CF52-B5BD-4401-81CC-70A17FCF9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2713-DCCB-4353-BF6D-5F2D624F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B05F-118E-466B-A555-45B4226A9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4107-62E6-49A6-B18C-513C4AC54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3B4D-9B09-4E53-B45D-6A0CBB00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E478-936E-4194-A4C9-95ADC50C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D36A-7B75-478B-848F-5433B57C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E815-4349-4636-8179-0DDCEED0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87AF-1430-42D2-A36B-50E29A15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B1FA-E354-41BA-8AE2-31C297B3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28AA-40D4-421C-80DA-839D4BB8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E64F-CFCF-473A-8752-A806A731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2F40-D27A-4610-8827-F93131C00F31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14400"/>
            <a:ext cx="9159840" cy="6843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00200" y="990720"/>
            <a:ext cx="6324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000000"/>
                </a:solidFill>
                <a:latin typeface="Times New Roman"/>
                <a:ea typeface="華康流隸體"/>
              </a:rPr>
              <a:t>剛達爾溫柔的光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170480" y="152280"/>
            <a:ext cx="255312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兩個穿著破爛的小女孩走上前來說：「可以給我一份嗎？聽到</a:t>
            </a:r>
            <a:r>
              <a:rPr b="0" lang="zh-TW" sz="28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剛達爾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有糧食，我們從</a:t>
            </a:r>
            <a:r>
              <a:rPr b="0" lang="zh-TW" sz="28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沃洛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越過三座山，走三天的路，來到這裡。我的父親和弟弟因為沒有吃的而餓死了，母親的眼睛也瞎了。請你幫幫我們。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當我想幫這兩個可憐的小女孩的時候，有一個衛兵用槍托粗魯的將她們打倒在地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「走開！這些是給</a:t>
            </a:r>
            <a:r>
              <a:rPr b="0" lang="zh-TW" sz="28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剛達爾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人吃的。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嚇壞了的小女孩趕緊從地上爬起來，跑進人群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27000"/>
            <a:ext cx="9905760" cy="6831000"/>
            <a:chOff x="0" y="27000"/>
            <a:chExt cx="9905760" cy="683100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4965480" y="27000"/>
              <a:ext cx="4940280" cy="683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4965480" cy="683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"/>
          <p:cNvSpPr/>
          <p:nvPr/>
        </p:nvSpPr>
        <p:spPr>
          <a:xfrm>
            <a:off x="0" y="0"/>
            <a:ext cx="4952880" cy="2466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等衛兵離開後，我帶一包玉米和奶粉去找那兩個女孩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「有人知道從</a:t>
            </a:r>
            <a:r>
              <a:rPr b="0" lang="zh-TW" sz="2800" spc="-1" strike="noStrike" u="sng">
                <a:solidFill>
                  <a:srgbClr val="ffff00"/>
                </a:solidFill>
                <a:uFillTx/>
                <a:latin typeface="Times New Roman"/>
                <a:ea typeface="標楷體"/>
              </a:rPr>
              <a:t>沃洛</a:t>
            </a:r>
            <a:r>
              <a:rPr b="0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來的女孩子嗎？」在人群中我大聲問： 「有人看到她們去哪裡了嗎？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天慢慢的暗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「從</a:t>
            </a:r>
            <a:r>
              <a:rPr b="0" lang="zh-TW" sz="2800" spc="-1" strike="noStrike" u="sng">
                <a:solidFill>
                  <a:srgbClr val="ffff00"/>
                </a:solidFill>
                <a:uFillTx/>
                <a:latin typeface="Times New Roman"/>
                <a:ea typeface="標楷體"/>
              </a:rPr>
              <a:t>沃洛</a:t>
            </a:r>
            <a:r>
              <a:rPr b="0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來的女孩子呀</a:t>
            </a:r>
            <a:r>
              <a:rPr b="0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-----</a:t>
            </a:r>
            <a:r>
              <a:rPr b="0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040280" y="0"/>
            <a:ext cx="586584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115920"/>
            <a:ext cx="4016520" cy="483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沒有糧食可以分發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廣場也沒人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海拔三千公尺高的</a:t>
            </a:r>
            <a:r>
              <a:rPr b="0" lang="zh-TW" sz="2800" spc="-1" strike="noStrike" u="sng">
                <a:solidFill>
                  <a:srgbClr val="ffff00"/>
                </a:solidFill>
                <a:uFillTx/>
                <a:latin typeface="Times New Roman"/>
                <a:ea typeface="標楷體"/>
              </a:rPr>
              <a:t>剛達爾</a:t>
            </a:r>
            <a:r>
              <a:rPr b="0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，晚間變得很冷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躺在帳蓬中溫暖的睡袋裡，我一直想著那兩個女孩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「她們—如果睡在野外，一定忍受不住這麼冷的夜氣。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0"/>
            <a:ext cx="44956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溫柔的晨光叫醒我。涼風，新鮮的空氣，讓人感覺舒適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我又開始問村人：「有人知道從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沃洛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來的女孩子嗎？」 「好像進去那間房子喔。」這一次有人這樣回答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我敲了門。「這麼早有人敲門，是什麼事？ 」一位穿破爛衣服的伯伯開了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「哦，是你。 謝謝昨天的玉米和奶粉。全家人一個月來沒吃過晚餐。所以昨天晚上大家吃得好高興。 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「是嗎？你知道從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沃洛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來的女孩子在哪裡嗎？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008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334360" y="152280"/>
            <a:ext cx="125568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伯伯嘴上含著微笑說：「哦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你是說昨天來的那兩個女孩子嗎？她們和我們一家人一起吃了晚餐。吃飽後在這裡過了夜。 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我忍不住地叫了起來：「那她們沒有餓肚子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沒有睡在寒冷的野外嗎？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5029200" cy="6846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811040" y="228600"/>
            <a:ext cx="479016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「她們還在睡嗎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？ 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「沒有。她們早早起牀後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說要趕回母親那裡。所以我讓她們帶了些玉米和奶粉，雖然只能給一些 ，但是她們很高興有東西帶回給母親 。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「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給她們？從那兩小包再分給她們？ 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「對，因為我很高興得到那些，所以我做同樣的事，讓她們高興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他雖然穿得破破爛爛的，但是他的心地如早晨的太陽般美麗無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5308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4065480"/>
            <a:ext cx="1835280" cy="2792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353000" y="152280"/>
            <a:ext cx="255312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我坐在那裡想，一包玉米一包奶粉，對伯伯、對家人來說，是多麼寶貴的食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伯伯卻將那些分給從不認識的女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我在同樣境況下，能和伯伯一樣嗎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在沒有吃的、可能會餓死的時候，我做得到嗎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5943600" cy="6885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534000" y="228600"/>
            <a:ext cx="29797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我做不到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我一直想著「我有能力來幫助別人」 ，但是我不能做到像那位伯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他沒有說「我來幫助你」 ，而是將寶貴的東西分給她們，讓她們分享他的高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-14400"/>
            <a:ext cx="4871880" cy="68724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909400" y="228600"/>
            <a:ext cx="385056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我回到廣場抬頭看著天空，靜靜的閉上眼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「對不起。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我不知道向誰道歉，只是從心底湧出這三個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溫柔的光、體貼的光，透過我的眼簾映入我的心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我聽到聲音說：「願意人怎樣對待你們， 你們也要怎樣對待人。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0" y="-228600"/>
            <a:ext cx="9906120" cy="6867360"/>
            <a:chOff x="0" y="-228600"/>
            <a:chExt cx="9906120" cy="6867360"/>
          </a:xfrm>
        </p:grpSpPr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0" y="-228600"/>
              <a:ext cx="4965840" cy="669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4940280" y="-55440"/>
              <a:ext cx="4965840" cy="669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"/>
          <p:cNvSpPr/>
          <p:nvPr/>
        </p:nvSpPr>
        <p:spPr>
          <a:xfrm>
            <a:off x="304920" y="4648320"/>
            <a:ext cx="944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495680"/>
            <a:ext cx="9906120" cy="9471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心中洋溢著溫柔、體貼的光，光閃爍著向我寄語：「讓我們心連心， 手牽手， 這麼做—我們就能和遙遠村莊的女孩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0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 和沒有見過面的村人成為好朋友。讓我們心連心， 手牽手， 來和他們分享幸福。這麼做—悲哀和痛苦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0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 就能漸漸的從世界上消失。 」在閃爍的光中看到的，深印在我的心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6527880" cy="6867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704280" y="0"/>
            <a:ext cx="320184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非洲，離我們的地方很遠很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我知道有一個國家叫做衣索比亞，出現過不少跑得像風那樣快的馬拉松選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但是現在因為缺乏糧食，有很多的人生活在痛苦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我可以做什麼？我可以幫什麼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從心底湧出的關心，讓我踏上遙遠的旅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33480"/>
            <a:ext cx="9906120" cy="6824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0"/>
            <a:ext cx="8381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8000"/>
                </a:solidFill>
                <a:latin typeface="Times New Roman"/>
                <a:ea typeface="標楷體"/>
              </a:rPr>
              <a:t>完成工作，我回到家。雖然我住的地方不像剛達爾，沒有人餓著肚子等待領糧食，但是還是有很多需要幫忙的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8000"/>
                </a:solidFill>
                <a:latin typeface="Times New Roman"/>
                <a:ea typeface="標楷體"/>
              </a:rPr>
              <a:t>其實，我本身多麼地需要別人的鼓勵和體貼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8000"/>
                </a:solidFill>
                <a:latin typeface="Times New Roman"/>
                <a:ea typeface="標楷體"/>
              </a:rPr>
              <a:t>我多麼地需要一起歡笑的朋友—這些能帶給我幸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8000"/>
                </a:solidFill>
                <a:latin typeface="Times New Roman"/>
                <a:ea typeface="標楷體"/>
              </a:rPr>
              <a:t>我願意將別人給予的鼓勵、體貼和歡笑，分送給更多的人，因為希望讓更多的人幸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8000"/>
                </a:solidFill>
                <a:latin typeface="Times New Roman"/>
                <a:ea typeface="標楷體"/>
              </a:rPr>
              <a:t>這就是我訪問遙遠的非洲衣索比亞的時候，從剛達爾溫柔、體貼的光學習到的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5848200" y="0"/>
            <a:ext cx="15754320" cy="6907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189000"/>
            <a:ext cx="92962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到陌生的國家當第一次的義工，讓我的心忐忑不安與興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飛機終於飛進阿迪斯阿貝巴，衣索比亞的首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我焦慮地等著接機的人，那時感到機場的風非常乾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迎接的朋友來了，他緊緊的握著我的手說：「歡迎你！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353000" y="228600"/>
            <a:ext cx="255312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我們的卡車搖搖晃晃向剛達爾前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開了好幾個鐘頭的車，呈現在眼前的是乾涸荒廢的土地。我沒有看過如此一望無際荒廢的土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前年、接著去年，在最需要雨水的播種季節沒有下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今年沒有收成。村莊裡完全斷了糧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1508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48320" y="5680080"/>
            <a:ext cx="1828800" cy="1177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206840" y="152280"/>
            <a:ext cx="255312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搬運糧食的大卡車終於到達了很多人等待的廣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「謝謝你們！好多天我們都沒吃東西了。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「有東西吃，我的小寶貝就有奶喝。他會很快恢復健康的。」有一位媽媽看著她瘦瘦的嬰兒這樣說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大家高興的看著我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10088640" cy="6857280"/>
            <a:chOff x="0" y="0"/>
            <a:chExt cx="10088640" cy="685728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0" y="1440"/>
              <a:ext cx="5086440" cy="68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5029200" y="0"/>
              <a:ext cx="5059440" cy="685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"/>
          <p:cNvSpPr/>
          <p:nvPr/>
        </p:nvSpPr>
        <p:spPr>
          <a:xfrm>
            <a:off x="838080" y="4392720"/>
            <a:ext cx="9220320" cy="2128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啊啊！廣場有數不清的人。一千人？不只，大約有兩千人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多麼的希望能分送足夠的糧食給她們每一個人，但是又恐怕不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怎麼辦呢？看到破衣服下枯瘦的大人和小孩，空著肚子等著卡車上的食物。他們不知等了多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我想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06840" y="0"/>
            <a:ext cx="449928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我趕緊從卡車搬下糧食開始工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「每一個人可以領一包玉米和一包奶粉。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「啊！謝謝！好高興。」「謝謝你們的救援。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「能不能多給我一份。」「家裡有很多人，一份不夠全家人吃。」有人這樣的哀求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為了不讓人多拿，為了不讓人爭搶，有衛兵站在那裡監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90612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3268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217000" y="304920"/>
            <a:ext cx="54900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422480" y="152280"/>
            <a:ext cx="233100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「對不起。每一個人只能有一包玉米和一包奶粉！ 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「一個人，一包玉米，一包奶粉！ 」我們不得不這樣回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太陽開始向西傾斜。糧食剩下不多。有些人，領到了食物還不回家，留在廣場暗暗的期待著。 「是否能再多領一包？ 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02:13:01Z</dcterms:created>
  <dc:creator>jtchang</dc:creator>
  <dc:description/>
  <dc:language>en-US</dc:language>
  <cp:lastModifiedBy>USER</cp:lastModifiedBy>
  <dcterms:modified xsi:type="dcterms:W3CDTF">2005-08-15T14:26:21Z</dcterms:modified>
  <cp:revision>12</cp:revision>
  <dc:subject/>
  <dc:title>PowerPoint 簡報</dc:title>
</cp:coreProperties>
</file>