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6705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09320" y="4303440"/>
            <a:ext cx="6705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5520" y="167652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320" y="430344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45520" y="430344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215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6600" y="1676520"/>
            <a:ext cx="215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3880" y="1676520"/>
            <a:ext cx="215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09320" y="4303440"/>
            <a:ext cx="215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76600" y="4303440"/>
            <a:ext cx="215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43880" y="4303440"/>
            <a:ext cx="215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09320" y="167652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3272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45520" y="1676520"/>
            <a:ext cx="3272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09320" y="837720"/>
            <a:ext cx="6705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5520" y="1676520"/>
            <a:ext cx="3272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09320" y="430344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3272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45520" y="167652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45520" y="430344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45520" y="1676520"/>
            <a:ext cx="3272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303440"/>
            <a:ext cx="6705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48760" cy="698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09320" y="167652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872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51040" indent="-18756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89120" indent="-2286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08160" indent="-2286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08160" indent="-2286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08160" indent="-2286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36360" y="-27000"/>
            <a:ext cx="9361440" cy="705636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914400" y="457200"/>
            <a:ext cx="7315200" cy="5715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47242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648320"/>
            <a:ext cx="4267440" cy="520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Book Antiqua"/>
                <a:ea typeface="萬用細行楷"/>
              </a:rPr>
              <a:t>商周數位學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981080"/>
            <a:ext cx="5410080" cy="23623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12952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先進觀念•輕鬆掌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05120" y="2895480"/>
            <a:ext cx="5257440" cy="1371600"/>
            <a:chOff x="1905120" y="2895480"/>
            <a:chExt cx="5257440" cy="1371600"/>
          </a:xfrm>
        </p:grpSpPr>
        <p:sp>
          <p:nvSpPr>
            <p:cNvPr id="46" name=""/>
            <p:cNvSpPr/>
            <p:nvPr/>
          </p:nvSpPr>
          <p:spPr>
            <a:xfrm>
              <a:off x="1905120" y="2895480"/>
              <a:ext cx="1314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19480" y="2895480"/>
              <a:ext cx="13140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33840" y="2895480"/>
              <a:ext cx="13140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48200" y="2895480"/>
              <a:ext cx="1314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867280" y="2971800"/>
          <a:ext cx="121284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971800"/>
                    <a:ext cx="12128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981080" y="2971800"/>
          <a:ext cx="1212840" cy="12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971800"/>
                    <a:ext cx="1212840" cy="1282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276720" y="2971800"/>
          <a:ext cx="12142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971800"/>
                    <a:ext cx="1214280" cy="1287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48320" y="2971800"/>
          <a:ext cx="115884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971800"/>
                    <a:ext cx="1158840" cy="129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523880" y="5257800"/>
            <a:ext cx="609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949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期封面故事</a:t>
            </a:r>
            <a:r>
              <a:rPr b="1" lang="zh-TW" sz="2200" spc="-1" strike="noStrike">
                <a:solidFill>
                  <a:srgbClr val="6600ff"/>
                </a:solidFill>
                <a:latin typeface="Times New Roman"/>
                <a:ea typeface="萬用新細明"/>
              </a:rPr>
              <a:t>〈夢想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0" y="5867280"/>
            <a:ext cx="196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Arial"/>
              </a:rPr>
              <a:t>建議最佳閱讀版本：</a:t>
            </a:r>
            <a:r>
              <a:rPr b="0" lang="zh-TW" sz="1100" spc="-1" strike="noStrike">
                <a:solidFill>
                  <a:srgbClr val="000000"/>
                </a:solidFill>
                <a:latin typeface="Arial"/>
              </a:rPr>
              <a:t>powerpoint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352680" y="1981080"/>
            <a:ext cx="2438280" cy="914400"/>
            <a:chOff x="3352680" y="1981080"/>
            <a:chExt cx="2438280" cy="914400"/>
          </a:xfrm>
        </p:grpSpPr>
        <p:sp>
          <p:nvSpPr>
            <p:cNvPr id="61" name=""/>
            <p:cNvSpPr/>
            <p:nvPr/>
          </p:nvSpPr>
          <p:spPr>
            <a:xfrm>
              <a:off x="3352680" y="1981080"/>
              <a:ext cx="24382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452760" y="1992240"/>
              <a:ext cx="2232000" cy="695520"/>
              <a:chOff x="3452760" y="1992240"/>
              <a:chExt cx="2232000" cy="69552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3452760" y="1992240"/>
              <a:ext cx="2232000" cy="695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452760" y="1992240"/>
                        <a:ext cx="2232000" cy="69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3497040" y="235116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352680" y="2666880"/>
              <a:ext cx="2437920" cy="228240"/>
              <a:chOff x="3352680" y="2666880"/>
              <a:chExt cx="2437920" cy="228240"/>
            </a:xfrm>
          </p:grpSpPr>
          <p:sp>
            <p:nvSpPr>
              <p:cNvPr id="67" name=""/>
              <p:cNvSpPr/>
              <p:nvPr/>
            </p:nvSpPr>
            <p:spPr>
              <a:xfrm>
                <a:off x="3352680" y="2666880"/>
                <a:ext cx="2437920" cy="2282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8" name=""/>
              <p:cNvGraphicFramePr/>
              <p:nvPr/>
            </p:nvGraphicFramePr>
            <p:xfrm>
              <a:off x="3767040" y="2669040"/>
              <a:ext cx="1602720" cy="219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767040" y="2669040"/>
                        <a:ext cx="1602720" cy="219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" name=""/>
              <p:cNvSpPr/>
              <p:nvPr/>
            </p:nvSpPr>
            <p:spPr>
              <a:xfrm>
                <a:off x="4563000" y="2743920"/>
                <a:ext cx="69840" cy="96480"/>
              </a:xfrm>
              <a:prstGeom prst="ellipse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363280" y="2752200"/>
                <a:ext cx="70200" cy="96480"/>
              </a:xfrm>
              <a:prstGeom prst="ellipse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6320" y="2734920"/>
                <a:ext cx="69840" cy="96480"/>
              </a:xfrm>
              <a:prstGeom prst="ellipse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夢想狂人日記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240" y="18288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有位「狂人」，他的網路日記從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1999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以來，吸引了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88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萬人次上網瀏覽，每次只要推出新的內容，網友們就呼朋引伴前去觀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這位狂人叫李昆霖，今年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9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歲，他做過的事，可能比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92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歲的人更多。而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他的日記之所以受歡迎，正因為他是個夢想實踐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家人和老師都說，他資質平庸、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IQ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一般、反應也沒有特別快，但自律力高、行動力強，下定決心要做的事，就會全心投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個月完成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件要做的事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4240" y="18288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李昆霖回憶，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18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歲時，一位同學罹患血癌過世，他突然體悟到人生苦短。所以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他立志不讓自己錯失當下的夢想，才不會死前後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當時，他一口氣列出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0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件人生要做的事。結果，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個月內全部完成。從此，他就成為夢想實踐狂，活在不斷實現夢想的道路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他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7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歲拿到美國俄亥俄大學化工博士、旅遊遍及世界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31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國家、擁有澳洲網球教練執照、通過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8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級鋼琴檢定，精通中、英、德、日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4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國語言…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圓夢背後付出的努力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18288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對外，李昆霖展現的都是瘋顛狂放的一面，似乎所有的夢想，到了他的手中就會成真。但不為人知的是，他背後付出的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以他最拿手的網球、高爾夫、鋼琴以及長跑來說。學生時代，無論功課多忙，他一定會要求自己每天都要練到這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4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項興趣至少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小時以上，加起來就是每天至少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4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小時以上，同時，他又要求功課要名列前茅，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所以，人前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分鐘狂妄的表現，其實是不斷練習累積來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他是夢想實踐狂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1828800"/>
            <a:ext cx="630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他不但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拿到博士學位，發表比一般博士生還多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倍的論文數，還自己開車走遍美國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44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州，並學會滑雪，挑戰了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13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座美國東、西岸的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而談起現在與未來要進行的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4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個夢，他又滔滔不絕的說了起來：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006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要進入國際標準舞的職業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組比賽、開一家油管腐蝕顧問公司、成為暢銷書作者、開文武雙全補習班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人生，有夢最美，李昆霖一個又一個的造夢、圓夢，說他是夢想實踐狂，一點也不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b9292f"/>
                </a:solidFill>
                <a:latin typeface="標楷體"/>
              </a:rPr>
              <a:t>圓夢秘訣》</a:t>
            </a: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為何無法圓夢？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18288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夢想，根據其目的又分成兩類，一類是人生的大夢，是終其一生要達到的境界，通常與事業、志業有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另一類則是生活的小夢，是在事業之外，渴望追尋人生平衡的夢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有了夢想以後，能成功逐夢者卻屬鳳毛麟角。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無法圓夢的原因主要有二：</a:t>
            </a:r>
            <a:br>
              <a:rPr sz="2400"/>
            </a:b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缺乏聚焦的目標，</a:t>
            </a:r>
            <a:br>
              <a:rPr sz="2400"/>
            </a:b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缺乏行動力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09680" y="99072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b9292f"/>
                </a:solidFill>
                <a:latin typeface="標楷體"/>
                <a:ea typeface="標楷體"/>
              </a:rPr>
              <a:t>圓夢秘訣》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找出你是哪種類型的逐夢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828800"/>
            <a:ext cx="6172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行動∕目標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聚焦夢想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散焦夢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 細規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 粗規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38280" y="1752480"/>
            <a:ext cx="6381360" cy="4572000"/>
            <a:chOff x="2438280" y="1752480"/>
            <a:chExt cx="6381360" cy="4572000"/>
          </a:xfrm>
        </p:grpSpPr>
        <p:sp>
          <p:nvSpPr>
            <p:cNvPr id="105" name=""/>
            <p:cNvSpPr/>
            <p:nvPr/>
          </p:nvSpPr>
          <p:spPr>
            <a:xfrm>
              <a:off x="2438280" y="2286000"/>
              <a:ext cx="6381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267080"/>
              <a:ext cx="6381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38280" y="6324480"/>
              <a:ext cx="6381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63160" y="1752480"/>
              <a:ext cx="0" cy="4572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8200" y="1752480"/>
              <a:ext cx="0" cy="4572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8280" y="1752480"/>
              <a:ext cx="0" cy="4572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19640" y="1752480"/>
              <a:ext cx="0" cy="4572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8280" y="1752480"/>
              <a:ext cx="6381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327560" y="2279520"/>
            <a:ext cx="20732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5151c"/>
                </a:solidFill>
                <a:latin typeface="Times New Roman"/>
                <a:ea typeface="標楷體"/>
              </a:rPr>
              <a:t>類型</a:t>
            </a:r>
            <a:r>
              <a:rPr b="0" lang="zh-TW" sz="1800" spc="-1" strike="noStrike">
                <a:solidFill>
                  <a:srgbClr val="c5151c"/>
                </a:solidFill>
                <a:latin typeface="Times New Roman"/>
                <a:ea typeface="標楷體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非常好，</a:t>
            </a:r>
            <a:br>
              <a:rPr sz="1800"/>
            </a:b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你是個</a:t>
            </a:r>
            <a:r>
              <a:rPr b="1" lang="zh-TW" sz="1800" spc="-1" strike="noStrike">
                <a:solidFill>
                  <a:srgbClr val="333399"/>
                </a:solidFill>
                <a:latin typeface="Times New Roman"/>
                <a:ea typeface="標楷體"/>
              </a:rPr>
              <a:t>有效率的夢想達人</a:t>
            </a: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270320"/>
            <a:ext cx="2133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5151c"/>
                </a:solidFill>
                <a:latin typeface="Times New Roman"/>
                <a:ea typeface="標楷體"/>
              </a:rPr>
              <a:t>類型</a:t>
            </a:r>
            <a:r>
              <a:rPr b="0" lang="zh-TW" sz="1800" spc="-1" strike="noStrike">
                <a:solidFill>
                  <a:srgbClr val="c5151c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還不錯，</a:t>
            </a:r>
            <a:br>
              <a:rPr sz="1800"/>
            </a:b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但</a:t>
            </a:r>
            <a:r>
              <a:rPr b="1" lang="zh-TW" sz="1800" spc="-1" strike="noStrike">
                <a:solidFill>
                  <a:srgbClr val="333399"/>
                </a:solidFill>
                <a:latin typeface="Times New Roman"/>
                <a:ea typeface="標楷體"/>
              </a:rPr>
              <a:t>請再蒐集更多資訊</a:t>
            </a: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，縮短奔向夢想的時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4270320"/>
            <a:ext cx="2340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5151c"/>
                </a:solidFill>
                <a:latin typeface="Times New Roman"/>
                <a:ea typeface="標楷體"/>
              </a:rPr>
              <a:t>類型</a:t>
            </a:r>
            <a:r>
              <a:rPr b="0" lang="zh-TW" sz="1800" spc="-1" strike="noStrike">
                <a:solidFill>
                  <a:srgbClr val="c5151c"/>
                </a:solidFill>
                <a:latin typeface="Times New Roman"/>
                <a:ea typeface="標楷體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新的一年，你應該</a:t>
            </a:r>
            <a:r>
              <a:rPr b="1" lang="zh-TW" sz="1800" spc="-1" strike="noStrike">
                <a:solidFill>
                  <a:srgbClr val="333399"/>
                </a:solidFill>
                <a:latin typeface="Times New Roman"/>
                <a:ea typeface="標楷體"/>
              </a:rPr>
              <a:t>找出自己的夢想</a:t>
            </a: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，你到底渴望什麼？想得越清楚越好，然後開始擬定計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2282760"/>
            <a:ext cx="2057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5151c"/>
                </a:solidFill>
                <a:latin typeface="Times New Roman"/>
                <a:ea typeface="標楷體"/>
              </a:rPr>
              <a:t>類型</a:t>
            </a:r>
            <a:r>
              <a:rPr b="0" lang="zh-TW" sz="1800" spc="-1" strike="noStrike">
                <a:solidFill>
                  <a:srgbClr val="c5151c"/>
                </a:solidFill>
                <a:latin typeface="Times New Roman"/>
                <a:ea typeface="標楷體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請</a:t>
            </a:r>
            <a:r>
              <a:rPr b="1" lang="zh-TW" sz="1800" spc="-1" strike="noStrike">
                <a:solidFill>
                  <a:srgbClr val="333399"/>
                </a:solidFill>
                <a:latin typeface="Times New Roman"/>
                <a:ea typeface="標楷體"/>
              </a:rPr>
              <a:t>先將你的夢想聚焦</a:t>
            </a:r>
            <a:r>
              <a:rPr b="0" lang="zh-TW" sz="1800" spc="-1" strike="noStrike">
                <a:solidFill>
                  <a:srgbClr val="231f20"/>
                </a:solidFill>
                <a:latin typeface="Times New Roman"/>
                <a:ea typeface="標楷體"/>
              </a:rPr>
              <a:t>，否則會花太多時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b9292f"/>
                </a:solidFill>
                <a:latin typeface="標楷體"/>
              </a:rPr>
              <a:t>圓夢秘訣》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掌握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守則 離夢想更近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你必須設定可以達成的有形目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在日常生活中，每一個你主要的興趣或你扮演的角色中，至少都設定一個你想完成的目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把夢想和你生命中的熱情相結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設定能引燃你的熱情或能激發你行動的夢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把你的夢想所有可以具體化的細節一一寫下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b9292f"/>
                </a:solidFill>
                <a:latin typeface="標楷體"/>
              </a:rPr>
              <a:t>圓夢秘訣》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掌握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守則 離夢想更近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無條件為你的夢想奉獻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15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和其他類似的人一起分享你的夢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為你的夢想設定每天、每週、每月及每年應完成的目標，也設定什麼時候要開始做，什麼時候要驗收這個夢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每天花十分鐘想一下，當你的夢想真的實現時，你會有多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每天至少都要做一點「讓你離你的夢想更近一步」的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"/>
              </a:rPr>
              <a:t>小結：</a:t>
            </a: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夢想 留給想贏得的人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14240" y="1904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古往今來，人們的夢想往往死在「放棄」手上，毀在「嘲諷」腳下，被「困難」打敗，遭到「拖延」的溺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越大的夢想，越可能遇到挫折。這時，你會需要實踐夢想的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力」：認知力、執著力、勇氣力、紀律力、專注力、孤獨力，來提高夢想實現的機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夢想，就像幸福的青鳥，只留給一心想要贏得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95288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本文摘自</a:t>
            </a:r>
            <a:r>
              <a:rPr b="0" lang="zh-TW" sz="2000" spc="-1" strike="noStrike" u="sng">
                <a:solidFill>
                  <a:srgbClr val="000066"/>
                </a:solidFill>
                <a:uFillTx/>
                <a:latin typeface="Arial"/>
                <a:ea typeface="標楷體"/>
              </a:rPr>
              <a:t>949</a:t>
            </a:r>
            <a:r>
              <a:rPr b="0" lang="zh-TW" sz="24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期</a:t>
            </a:r>
            <a:r>
              <a:rPr b="0" lang="zh-TW" sz="2400" spc="-1" strike="noStrike" u="sng">
                <a:solidFill>
                  <a:srgbClr val="000066"/>
                </a:solidFill>
                <a:uFillTx/>
                <a:latin typeface="Times New Roman"/>
                <a:ea typeface="標楷體"/>
              </a:rPr>
              <a:t>封面故事</a:t>
            </a:r>
            <a:r>
              <a:rPr b="0" lang="zh-TW" sz="24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〈夢想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182880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16360" y="336528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這輩子都不要說「我以後要怎樣怎樣……」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19890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如果有「以後」想做的事，</a:t>
            </a:r>
            <a:br>
              <a:rPr sz="3200"/>
            </a:b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現在，沒錯，就請</a:t>
            </a:r>
            <a:r>
              <a:rPr b="1" lang="zh-TW" sz="3200" spc="-1" strike="noStrike" u="sng">
                <a:solidFill>
                  <a:srgbClr val="333399"/>
                </a:solidFill>
                <a:uFillTx/>
                <a:latin typeface="Times New Roman"/>
                <a:ea typeface="標楷體"/>
              </a:rPr>
              <a:t>現在去做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933280" y="474192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大前研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2b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你的夢想  不要只是空想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14600" y="1828440"/>
            <a:ext cx="637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DFMing-XB-HK-BF"/>
              </a:rPr>
              <a:t>每個人，心中都有夢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DFMing-XB-HK-BF"/>
              </a:rPr>
              <a:t>有的是人生大夢，是終其一生要達到的境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DFMing-XB-HK-BF"/>
              </a:rPr>
              <a:t>通常與事業、志業有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DFMing-XB-HK-BF"/>
              </a:rPr>
              <a:t>有的是生活小夢，在事業之外，渴望追尋人生的平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DFMing-XB-HK-BF"/>
              </a:rPr>
              <a:t>你的夢想有多大，世界就有多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DFMing-XB-HK-BF"/>
              </a:rPr>
              <a:t>新的一年，設定你的夢想，寫下你的方法，開始圓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523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b9292f"/>
                </a:solidFill>
                <a:latin typeface="標楷體"/>
              </a:rPr>
              <a:t>人生大夢》</a:t>
            </a:r>
            <a:r>
              <a:rPr b="0" lang="zh-TW" sz="2000" spc="-1" strike="noStrike">
                <a:solidFill>
                  <a:srgbClr val="000066"/>
                </a:solidFill>
                <a:latin typeface="Arial"/>
              </a:rPr>
              <a:t>李芸嬋被一部電影扭轉人生</a:t>
            </a:r>
            <a:br>
              <a:rPr sz="2000"/>
            </a:b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倒茶水的夢　孵出國際新銳女導演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133360" y="2895120"/>
            <a:ext cx="3276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333399"/>
                </a:solidFill>
                <a:uFillTx/>
                <a:latin typeface="Arial"/>
              </a:rPr>
              <a:t>李芸嬋　夢想標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：成為國際知名導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年齡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追夢年齡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投資金錢：短片自籌金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預計投資時間：一輩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達成進度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56160" y="2932200"/>
            <a:ext cx="37641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為了自己的名字在銀幕上發光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14240" y="17521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一個愛買鞋子的女孩子，受傷坐輪椅後不能穿鞋，終於發現幸福的可貴。這是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005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得到金馬獎最佳美術指導獎的「人魚朵朵」電影，也是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34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歲新銳導演李芸嬋的第一部長片作品。還是韓國釜山影展獎勵亞洲新銳導演的新潮流單元，唯一台灣代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在市場低迷的電影圈，李芸嬋從助理、場記，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9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就爬到商業長片導演位子，已算是幸運兒。但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對畢業於台大動物研究所、主修遺傳工程的她而言，更大意義在於圓了拍電影夢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看見另一種人生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14240" y="18288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為了這夢想，她放棄生物科技公司實驗室工程師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6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7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萬元月薪，從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個月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萬元，騎機車替人買便當的助理做起。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「當小助理與養桃莉羊，誰規定哪個比較高尚？」李芸嬋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1985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，有人介紹她參加萬仁導演的「超級公民」劇組，開啟了李芸嬋正式的電影之路，之後，她歷經了服裝助理、場記、製作助理、導演助理、副導演等多項工作歷練，對於複雜的電影工作開始有概略的架構與概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拿出實驗精神  修寫劇本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14600" y="1828800"/>
            <a:ext cx="637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000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起，李芸嬋開始寫劇本，在片廠熬夜回來，一有靈感或想到好句子，就算幾天沒睡，也要記下來才肯闔眼。但前後快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、寫出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4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個劇本，卻沒獲得任何輔導金的補助開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她決定拿出做實驗的精神，「那我就要反覆修到你們滿意為止。」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終於在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2003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年，「神奇洗衣機」獲得輔導金的補助開拍。「人魚朵朵」更一舉拿到影帝劉德華的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千萬投資，從短片構想擴張為長片，讓李芸嬋晉升為頗受重視的新銳導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樂觀是達成夢想的最大源頭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240" y="18288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對於時常跳脫人生常軌的李芸嬋，教授父親很開明的說：「就算當到教授，也不保證人生無憾，有機會做想做的事情，就做吧。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倒是母親為她特別傷腦筋，這兩年她小有成績後，媽媽才說：「那妳就跑出去吧，跑得越遠越好，被越多人看見越好！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生性樂觀的李芸嬋說：「就算境遇上上下下，</a:t>
            </a:r>
            <a:r>
              <a:rPr b="1" lang="zh-TW" sz="2400" spc="-1" strike="noStrike">
                <a:solidFill>
                  <a:srgbClr val="333399"/>
                </a:solidFill>
                <a:latin typeface="Times New Roman"/>
              </a:rPr>
              <a:t>人生還是有好笑、開心的一面，至於達成夢想的辛苦與磨練，就留給自己看見就好啦！</a:t>
            </a:r>
            <a:r>
              <a:rPr b="0" lang="zh-TW" sz="2400" spc="-1" strike="noStrike">
                <a:solidFill>
                  <a:srgbClr val="231f20"/>
                </a:solidFill>
                <a:latin typeface="Times New Roman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1523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b9292f"/>
                </a:solidFill>
                <a:latin typeface="標楷體"/>
              </a:rPr>
              <a:t>生活有夢》</a:t>
            </a:r>
            <a:r>
              <a:rPr b="0" lang="zh-TW" sz="2000" spc="-1" strike="noStrike">
                <a:solidFill>
                  <a:srgbClr val="000066"/>
                </a:solidFill>
                <a:latin typeface="Arial"/>
              </a:rPr>
              <a:t>李昆霖搶時間瘋狂實踐每一個夢</a:t>
            </a:r>
            <a:br>
              <a:rPr sz="2000"/>
            </a:br>
            <a:r>
              <a:rPr b="1" lang="zh-TW" sz="3200" spc="-1" strike="noStrike">
                <a:solidFill>
                  <a:srgbClr val="000066"/>
                </a:solidFill>
                <a:latin typeface="Arial"/>
              </a:rPr>
              <a:t>拒絕說遺憾　用三年踏遍美國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33360" y="2895120"/>
            <a:ext cx="3276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333399"/>
                </a:solidFill>
                <a:uFillTx/>
                <a:latin typeface="Arial"/>
              </a:rPr>
              <a:t>李昆霖　夢想標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：達成每個人生夢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年齡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追夢年齡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預計投資金錢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預計投資時間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達成進度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37339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03:44:36Z</dcterms:created>
  <dc:creator>Admin</dc:creator>
  <dc:description/>
  <dc:language>en-US</dc:language>
  <cp:lastModifiedBy>SuperXP</cp:lastModifiedBy>
  <dcterms:modified xsi:type="dcterms:W3CDTF">2006-04-17T15:16:43Z</dcterms:modified>
  <cp:revision>294</cp:revision>
  <dc:subject/>
  <dc:title>投影片 1</dc:title>
</cp:coreProperties>
</file>