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7CA-34F7-48FB-9614-E4CB4A2A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D48-F84F-4032-A762-E5307793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1E4-038D-43E5-BC46-C35D5D27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606-E92F-4E57-82BD-E8B3C0C2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6EAC-8FAA-4036-A744-35EF3B64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FB21-4A05-4280-9B34-A70BD4AC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7E6A-22CA-493E-82E0-874564F7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5BAB-9F84-478D-A92D-3D88343D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8F8F-0A1D-4961-95A0-5DE4A795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4295-85AD-4B9D-B031-B4F8D32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B224-C813-4DDE-81B4-529D40CB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6A3-2F2B-4CC8-9FE1-E3CC811C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1EFF-D94C-4D98-A99A-5E756037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0FE5-332F-45D0-B99A-44418FEA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6797-3327-4B84-96CD-F466D1A5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9400-93CB-4F27-9329-8FB89DD9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9354-5082-46AA-A7B1-868EC3A6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B68-91AB-41E2-9F3D-2063A84B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5F4-F55D-4DA1-B60E-BC64CB74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6D3-FC4B-4938-A9DE-3632CBD9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6A7-AB44-440E-91E7-1EFFF617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6DF-22C1-49E4-B2E9-35E05EB9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F70-799F-4643-BE05-469887D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D0C-F47E-4873-A3D2-4558DA9C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596B-C0E5-4B8A-9D85-460F65B9D6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400960" y="5877000"/>
            <a:ext cx="7430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D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0DB9-1077-4AC9-857A-904A1A86ED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Arial"/>
                <a:ea typeface="全真綜藝體"/>
              </a:rPr>
              <a:t>朋友的不同樓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 D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3427560"/>
            <a:ext cx="476244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我經驗到有的時候當眼睛裝滿感恩的淚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就會忘記六十億人口的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而常常一點點小小的感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又會使我覺得好象可以擁有一切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擁有這整棟樓的朋友和心情。</a:t>
            </a: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400960" y="5877000"/>
            <a:ext cx="7430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D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6920" y="1628640"/>
            <a:ext cx="397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華康中特圓體(P)"/>
              </a:rPr>
              <a:t>還有一個朋友是「自己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華康中特圓體(P)"/>
              </a:rPr>
              <a:t>他不屬於任何層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華康中特圓體(P)"/>
              </a:rPr>
              <a:t>他一直都陪伴著我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華康中特圓體(P)"/>
              </a:rPr>
              <a:t>認識他、接納他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華康中特圓體(P)"/>
              </a:rPr>
              <a:t>如何跟他相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華康中特圓體(P)"/>
              </a:rPr>
              <a:t>這些是我們一生的功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400960" y="5877000"/>
            <a:ext cx="7430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D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4572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普通的朋友從未看過你哭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真正的朋友有雙肩讓你淚水濕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普通的朋友不知道你父母的姓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真正的朋友在通訊錄上有他們電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普通朋友會帶葡萄酒參加你的派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真正朋友會早點來幫你準備</a:t>
            </a:r>
            <a:r>
              <a:rPr b="0" lang="en-US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晚點走幫你打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普通朋友討厭你在他睡了後打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真正的朋友會問為什麼現在才打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84780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普通的朋友找你談論你的困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真正的朋友找你解決你的困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普通朋友對你的羅曼史感到好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真正的朋友可以威脅你說出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普通朋友在拜訪時，像客人一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真正朋友會打開冰箱自己拿東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普通朋友在吵架後就認為友誼已經結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真正的朋友明白當你們還沒打過架就不叫真正的友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普通的朋友期望你永遠在他身邊陪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個真正的朋友期望他能永遠陪在你身旁 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10040" y="114480"/>
            <a:ext cx="292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用最成熟的心態來選擇自己的未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400960" y="5877000"/>
            <a:ext cx="7430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D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華康中特圓體(P)"/>
              </a:rPr>
              <a:t>	</a:t>
            </a: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華康中特圓體(P)"/>
              </a:rPr>
              <a:t>無論哪種朋友，在相處時，請你珍惜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華康中特圓體(P)"/>
              </a:rPr>
              <a:t>	</a:t>
            </a:r>
            <a:r>
              <a:rPr b="1" lang="zh-TW" sz="3200" spc="-1" strike="noStrike">
                <a:solidFill>
                  <a:srgbClr val="333399"/>
                </a:solidFill>
                <a:latin typeface="Arial"/>
                <a:ea typeface="華康中特圓體(P)"/>
              </a:rPr>
              <a:t>也許他會進入店面，走過客廳，穿過廚房，來到臥室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華康中特圓體(P)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673200"/>
            <a:ext cx="6275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地球上將近有六十億人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我們可以擁抱的人有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可以牽手的人有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可以講話但不能碰觸的人有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擦身而過又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有時候真是覺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可以進到自己內心的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如果用手來數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是不是一隻手就夠用了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如果可以選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我寧願退化變成猴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一堆一堆的依偎在樹上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躺著一起曬太陽、吹風、看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人際的心靈裏有許多不同的空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具體一點說像是不同的樓層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78360" y="0"/>
            <a:ext cx="3365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8400960" y="5877000"/>
            <a:ext cx="7430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D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599840"/>
            <a:ext cx="417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一樓的是「店面朋友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通常二十句固定的話就夠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例如：你好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吃飯沒？去那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好漂亮！還好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沒什麼！就這樣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每個人看來都很平穩、安定、滿足和成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1200" y="1430280"/>
            <a:ext cx="43308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二樓是「客廳朋友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可以坐在一起泡泡茶八卦一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政治經濟、新的商機、最近的媒體新聞、樂透彩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大家一起哈啦打發時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可以繞過每一個人內心裏的孤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然後覺得自己好幸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8400960" y="5877000"/>
            <a:ext cx="7430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D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0" y="1484280"/>
            <a:ext cx="4114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「廚房朋友」在三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就是可以剖腹談心的那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這類朋友如果是女性族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就會有一堆笑聲或幾把眼淚來做收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特圓體(P)"/>
                <a:ea typeface="華康中特圓體(P)"/>
              </a:rPr>
              <a:t>然後覺得自己充分被對方所瞭解，人生一點也不寂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151920"/>
            <a:ext cx="5014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四樓是「臥室朋友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可以親密、觸摸的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154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69228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有些臥室開著傳統的日光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一切依照傳統的規矩來進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有些臥室總是把燈關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可以自由地幻想和投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各自編自己的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也有很多裝進口燈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44800"/>
            <a:ext cx="59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不管裝哪一種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通常臥室都具有一種隱藏性的魔術電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懂得怎麼用開關的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你的室友就是「伴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常把開關開得不是時候的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那個伴就有可能變成「絆」喔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老天爺最聰明的地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就是教你做這種魔術的主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400960" y="5877000"/>
            <a:ext cx="7430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D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4762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頂樓的陽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一般是空在那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沒有被設定要怎麼樣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這種朋友屬於「緣分朋友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有時飛來一隻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有時吹來一根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堆積一些泥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落下幾顆種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你不知道它在什麼時候會開什麼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499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4720" y="0"/>
            <a:ext cx="4859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當然沒有期望要結果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也許一陣雨來滋潤了心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也許刮起風吹亂了寸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無意中闖上來的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有人走得快，有人走得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這個屋頂看起來也許是空空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但是你知道它不是空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它裝滿了「曾經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這些曾經偶爾會在夜空下跑出來陪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也會幫你記錄歲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它們也許就是你用來拉近兒孫距離的話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這些曾經會使眼角的皺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回憶出當年的心情而變成許多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1640" y="1628640"/>
            <a:ext cx="44132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我習慣用一秒鐘穿過店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兩秒鐘經過客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三分鐘停在廚房一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四小時在臥室裏睡一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花五天的時間在屋頂等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特圓體(P)"/>
              </a:rPr>
              <a:t>等待老天爺給我生命中帶來的驚奇和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8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3:25:59Z</dcterms:created>
  <dc:creator>Dolly Zhou</dc:creator>
  <dc:description/>
  <dc:language>en-US</dc:language>
  <cp:lastModifiedBy>kelvin.ju</cp:lastModifiedBy>
  <dcterms:modified xsi:type="dcterms:W3CDTF">2005-09-20T05:52:13Z</dcterms:modified>
  <cp:revision>7</cp:revision>
  <dc:subject/>
  <dc:title>朋友的不同楼层</dc:title>
</cp:coreProperties>
</file>